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609-399E-4F38-958D-56C7E759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6DE-A26B-4C3B-9100-29D8DBA2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E2F-C853-4BE9-B144-A615C744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66-C6C1-4894-A3AF-4CC88127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7D2B-A374-40D6-87C8-37044E5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1427-F793-427B-94B4-CD017CAD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211F-CF36-469D-B3E1-BD3C1DF7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0F59-CF4A-44AD-AC56-8F22392D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405A-FF22-4DE9-A1C1-D7630C8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98B6-3006-43EE-8312-FEEBF9B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7318-A159-4F63-8573-2EB388B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234-E73B-42D6-BB2B-E98CBB6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F0E8-FA30-4F49-AB01-F581053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FFE-1858-4CAE-883C-49C8323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4DB9-0A90-4414-BDB8-1DA9482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4BC-B64E-4703-BCDB-D1E78CD7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1AF-6EAA-46CE-826A-FA54C2D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3AD-A7BA-4221-A96E-2CB0E4A9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6EC-9C00-479B-B4E5-402F0471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D17-F85A-4AB2-9BBD-AFFFF46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968-5AA9-4797-AFAE-C80579C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643-776C-4CD2-9D13-DEFD2F7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BAF-CF21-46BC-AA51-56FEAAC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25E-9845-4492-B919-215429E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5951-D43B-468F-91B2-591B252BC4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06CB-C876-454A-967C-E787B0F3B3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6800" y="2209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GRAPH OF A QUADRATIC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75248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82880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+ 2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– 3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le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5040" y="380880"/>
            <a:ext cx="68212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646280"/>
            <a:ext cx="8915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n the general form of a quadratic function f(x) = 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bx + c is changed to the  vertex form: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e can tell by horizontal and vertical shifting of the parabola where the vertex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parabola will be shifted h units horizontally and k units vert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67652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us, a quadratic function written in the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ill have a vertex at the point (h,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value of “a” will determine whether the parabola opens up or down (positive or negative) and whether the parabola is narrow or w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ex (highest or lowest point):  (h,k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xis of Symme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vertical line about which the graph of a quadratic function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x =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where h is the x-coordinate of the verte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, if we want to examine the characteristics of the graph of a quadratic function, our job is to transform the general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nto the vertex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– h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510840"/>
            <a:ext cx="69454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</a:t>
            </a:r>
            <a:r>
              <a:rPr b="1" lang="en-US" sz="4000" spc="-1" strike="noStrike">
                <a:solidFill>
                  <a:srgbClr val="00ccff"/>
                </a:solidFill>
                <a:latin typeface="Arial Rounded MT Bold"/>
              </a:rPr>
              <a:t>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will require to process of completing the square which is a </a:t>
            </a:r>
            <a:r>
              <a:rPr b="1" lang="en-US" sz="3600" spc="-1" strike="noStrike">
                <a:solidFill>
                  <a:srgbClr val="00ccff"/>
                </a:solidFill>
                <a:latin typeface="Arial Rounded MT Bold"/>
              </a:rPr>
              <a:t>little different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han completing the square to solve a quadratic equ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838080"/>
            <a:ext cx="8429760" cy="302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ng Quadratic Functions 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 Completing the Square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178160" y="3314880"/>
          <a:ext cx="328932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314880"/>
                    <a:ext cx="328932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24160" y="6699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tor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5480" y="685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 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171520" y="7236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15238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Perfect Squ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ri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76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40880" y="1616040"/>
            <a:ext cx="36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factors are in the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1080" y="2498760"/>
            <a:ext cx="85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e the relationship between the middle term and the last te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4680" y="2895480"/>
            <a:ext cx="66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last term is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ne-half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middle term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quared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6560" y="409896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the value of the last term that will make the follo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ct square trinom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360" y="50292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14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360" y="5562720"/>
            <a:ext cx="24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7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720" y="6156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- 3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02920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3080" y="49528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7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65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563868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6248520"/>
            <a:ext cx="1371600" cy="3045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5016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8760" y="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member about Perfect Square Trinom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3338640"/>
          <a:ext cx="10666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8640"/>
                    <a:ext cx="1066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598120" y="350676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62680" y="351936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362320" y="5410080"/>
          <a:ext cx="323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41008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438280" y="6019920"/>
          <a:ext cx="20952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6019920"/>
                    <a:ext cx="209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172200" y="5421240"/>
          <a:ext cx="91440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42124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172200" y="6045120"/>
          <a:ext cx="91440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604512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 quadratic function is a function of the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8120"/>
            <a:ext cx="411480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re a, b &amp; c are real numbers and a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domain of a quadratic function is all real numb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95560" y="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600" y="838080"/>
            <a:ext cx="91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23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98400" y="167652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5440" y="14479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6600" y="1981080"/>
            <a:ext cx="45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+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63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25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06680" y="2362320"/>
            <a:ext cx="352296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2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5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94800" y="4449600"/>
            <a:ext cx="325476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3720" y="5440320"/>
            <a:ext cx="32486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4000" y="251460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5080" y="3048120"/>
            <a:ext cx="19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5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403848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952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480" y="1980360"/>
            <a:ext cx="121824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28440" y="1980360"/>
            <a:ext cx="106632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61040" y="54705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-5, -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-44280" y="-7632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600" y="503280"/>
            <a:ext cx="90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11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6120" y="111276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5440" y="11127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4360" y="202716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00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252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41440" y="2514600"/>
            <a:ext cx="358704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4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7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41800" y="4572000"/>
            <a:ext cx="3521160" cy="131364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 When grou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trinomial, remember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stribute the coeffici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6041880"/>
            <a:ext cx="327348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388620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48769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3200" y="2742840"/>
            <a:ext cx="12182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52120" y="2742840"/>
            <a:ext cx="106632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60199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304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3, -2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41080" y="1646280"/>
            <a:ext cx="32270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Factor out the coeffic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f the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080" y="156996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1080" y="2484360"/>
            <a:ext cx="33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8440" y="3017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2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3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0800" y="3322800"/>
            <a:ext cx="38354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, when you rem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s term from the bra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3885000">
            <a:off x="662040" y="2584440"/>
            <a:ext cx="762120" cy="257040"/>
          </a:xfrm>
          <a:prstGeom prst="leftArrow">
            <a:avLst>
              <a:gd name="adj1" fmla="val 50000"/>
              <a:gd name="adj2" fmla="val 7412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3985800">
            <a:off x="2514240" y="187452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3429000" y="2514600"/>
                <a:ext cx="990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65120" y="45720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080" y="112860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80640" y="114300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20" y="17384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720" y="250020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______  -  ______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314880" y="2259000"/>
          <a:ext cx="398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259000"/>
                    <a:ext cx="39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876920" y="2239920"/>
          <a:ext cx="39852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3992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470520" y="320040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670200" y="3154320"/>
          <a:ext cx="59868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3154320"/>
                    <a:ext cx="59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75920" y="4038480"/>
            <a:ext cx="34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962440" y="3967200"/>
          <a:ext cx="44424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2440" y="396720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4120" y="493884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8120" y="4862520"/>
          <a:ext cx="444240" cy="7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86252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505320" y="4862520"/>
          <a:ext cx="64296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862520"/>
                    <a:ext cx="6429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74120" y="579132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048120" y="5715000"/>
          <a:ext cx="4460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446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5549040" y="5029200"/>
            <a:ext cx="16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ertex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238880" y="4903920"/>
          <a:ext cx="1163880" cy="88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903920"/>
                    <a:ext cx="1163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2959560" y="-763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leting the 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120760" y="1676520"/>
          <a:ext cx="268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0760" y="1676520"/>
                    <a:ext cx="268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127240" y="2425680"/>
          <a:ext cx="27792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7240" y="24256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070000" y="3124080"/>
          <a:ext cx="27792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0000" y="31240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3022560" y="3124080"/>
          <a:ext cx="398520" cy="64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22560" y="312408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023920" y="3962520"/>
          <a:ext cx="27792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23920" y="39625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031840" y="4876920"/>
          <a:ext cx="277920" cy="711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31840" y="48769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044800" y="5729400"/>
          <a:ext cx="277560" cy="71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4800" y="5729400"/>
                    <a:ext cx="277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066680" y="0"/>
            <a:ext cx="6553440" cy="35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Vertex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28800" y="3352680"/>
            <a:ext cx="624852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ul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715000" y="2666880"/>
            <a:ext cx="2971800" cy="190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2240" y="1828800"/>
            <a:ext cx="23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2362320"/>
          <a:ext cx="23623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2362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57200" y="3200400"/>
          <a:ext cx="39625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962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57200" y="4191120"/>
          <a:ext cx="449568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4495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522760" y="1332000"/>
                <a:ext cx="3278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926320" y="27338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vertex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121440" y="3478320"/>
          <a:ext cx="241308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1440" y="3478320"/>
                    <a:ext cx="2413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457200" y="380880"/>
            <a:ext cx="82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he general form,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omplete the squ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24360" y="-61920"/>
            <a:ext cx="67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5ffff"/>
                </a:solidFill>
                <a:uFillTx/>
                <a:latin typeface="Times New Roman"/>
              </a:rPr>
              <a:t>Completing the Square - The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4876920"/>
            <a:ext cx="3162600" cy="1465560"/>
          </a:xfrm>
          <a:prstGeom prst="rect">
            <a:avLst/>
          </a:prstGeom>
          <a:solidFill>
            <a:srgbClr val="e5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the vertex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t 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as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to remember that the x-value is       and then plug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to the equation to get the y-value for the vertex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441972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162920" y="5486400"/>
                <a:ext cx="24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839880" y="5257800"/>
                <a:ext cx="2992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78000" y="457200"/>
            <a:ext cx="7427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nd the vertex and the maximum or minimum valu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240" y="9270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360" y="149688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axis of symmetry, the vertex 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1440" y="22096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219320" y="2743200"/>
          <a:ext cx="1143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143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257480" y="3809880"/>
          <a:ext cx="1600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3809880"/>
                    <a:ext cx="1600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295280" y="4876920"/>
          <a:ext cx="99072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9907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341600" y="220968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77160" y="-619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Using the Vertex Form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ex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5943600"/>
          <a:ext cx="121752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943600"/>
                    <a:ext cx="12175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3655440" y="5105520"/>
            <a:ext cx="4478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 there is a maximu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4,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867280" y="5562720"/>
          <a:ext cx="52092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562720"/>
                    <a:ext cx="520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791320" y="1371600"/>
                <a:ext cx="1752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343400" y="2743200"/>
                <a:ext cx="1981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343400" y="3657600"/>
                <a:ext cx="44481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 of the Parabo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6400" y="2124000"/>
            <a:ext cx="3956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u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3440" y="2187360"/>
            <a:ext cx="40370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dow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23880" y="2514240"/>
            <a:ext cx="1904400" cy="3200040"/>
            <a:chOff x="1523880" y="2514240"/>
            <a:chExt cx="1904400" cy="3200040"/>
          </a:xfrm>
        </p:grpSpPr>
        <p:sp>
          <p:nvSpPr>
            <p:cNvPr id="587" name=""/>
            <p:cNvSpPr/>
            <p:nvPr/>
          </p:nvSpPr>
          <p:spPr>
            <a:xfrm flipV="1">
              <a:off x="1524600" y="2513880"/>
              <a:ext cx="1903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1523520" y="2513880"/>
              <a:ext cx="190440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715000" y="4420440"/>
            <a:ext cx="1904400" cy="2742840"/>
            <a:chOff x="5715000" y="4420440"/>
            <a:chExt cx="1904400" cy="2742840"/>
          </a:xfrm>
        </p:grpSpPr>
        <p:sp>
          <p:nvSpPr>
            <p:cNvPr id="590" name=""/>
            <p:cNvSpPr/>
            <p:nvPr/>
          </p:nvSpPr>
          <p:spPr>
            <a:xfrm>
              <a:off x="5715720" y="4420440"/>
              <a:ext cx="19036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715000" y="4420440"/>
              <a:ext cx="19044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6640" y="436320"/>
            <a:ext cx="695016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 Rounded MT Bold"/>
              </a:rPr>
              <a:t>CHARACTERISTICS OF THE GRAPH OF A QUADRATIC FUN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228600" y="2666880"/>
                <a:ext cx="87613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-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    AXIS OF SYMMETRY:    x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6680" y="403848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up and has a minimum value if a &g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down and has a maximum value if a &l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17524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Determine without graphing whether the given quadratic function has a maximum or minimum value and then find the value.  Verify by grap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8x 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8x +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THE X AND Y INTERCEPTS OF A QUADRATIC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295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Find the x-intercepts by setting the quadratic function equal to zero and solve by whatever method is easi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4ac &g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 bx + c has two distinct x-intercepts and will cross the x-axis tw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3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=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+ bx + c has one x-intercept and touches the x-axis at its ver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4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&l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+ bx + c has no x-intercept and will not cross or touch the x-ax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5. Find the y-intercept by substituting x=0 into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1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s we’ve already seen,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graphs into a PARABOL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is the simplest quadratic function we can think of.  We will use this one as a model by which to compare all other quadratic functions we will exam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ING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8223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raph the functions below by hand by determining whether its graph opens up or down and by finding its vertex, axis of symmetry, y-intercept, and x-intercepts, if any.  Verify your results using a graphing calculat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6x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(x) = 3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k(x) =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 +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3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9720" y="588960"/>
            <a:ext cx="695304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VERTEX OF A PARABOL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 VERTEX, the lowest or highest point on the graph (depending upon whether it opens up or down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695808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AXIS OF SYMMET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n AXIS OF SYMMETRY, an imaginary line which goes through the vertex and about which the parabola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436320"/>
            <a:ext cx="695304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HOW PARABOLAS DIFF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5740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open up and some open d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s will all have a different vertex and a different axis of symme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will be wide and some will be narr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828800" y="533520"/>
            <a:ext cx="3809160" cy="3809520"/>
            <a:chOff x="1828800" y="533520"/>
            <a:chExt cx="3809160" cy="3809520"/>
          </a:xfrm>
        </p:grpSpPr>
        <p:grpSp>
          <p:nvGrpSpPr>
            <p:cNvPr id="95" name=""/>
            <p:cNvGrpSpPr/>
            <p:nvPr/>
          </p:nvGrpSpPr>
          <p:grpSpPr>
            <a:xfrm>
              <a:off x="1828800" y="533520"/>
              <a:ext cx="1904400" cy="1905120"/>
              <a:chOff x="1828800" y="533520"/>
              <a:chExt cx="1904400" cy="19051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971440" y="533520"/>
                <a:ext cx="380880" cy="1905120"/>
                <a:chOff x="2971440" y="533520"/>
                <a:chExt cx="380880" cy="1905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7144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7144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144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97144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97144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590560" y="533520"/>
                <a:ext cx="380520" cy="1905120"/>
                <a:chOff x="2590560" y="533520"/>
                <a:chExt cx="380520" cy="1905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9056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9056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59056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9056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9056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209680" y="533520"/>
                <a:ext cx="380520" cy="1905120"/>
                <a:chOff x="2209680" y="533520"/>
                <a:chExt cx="380520" cy="1905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209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09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09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09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28800" y="533520"/>
                <a:ext cx="380880" cy="1905120"/>
                <a:chOff x="1828800" y="533520"/>
                <a:chExt cx="380880" cy="1905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8288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288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288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288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288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352680" y="533520"/>
                <a:ext cx="380520" cy="1905120"/>
                <a:chOff x="3352680" y="533520"/>
                <a:chExt cx="380520" cy="1905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52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52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52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52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352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3733560" y="533520"/>
              <a:ext cx="1904400" cy="1905120"/>
              <a:chOff x="3733560" y="533520"/>
              <a:chExt cx="1904400" cy="19051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876200" y="533520"/>
                <a:ext cx="380880" cy="1905120"/>
                <a:chOff x="4876200" y="533520"/>
                <a:chExt cx="380880" cy="1905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8762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762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762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762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762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495320" y="533520"/>
                <a:ext cx="380520" cy="1905120"/>
                <a:chOff x="4495320" y="533520"/>
                <a:chExt cx="380520" cy="190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532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49532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9532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9532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32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14440" y="533520"/>
                <a:ext cx="380520" cy="1905120"/>
                <a:chOff x="4114440" y="533520"/>
                <a:chExt cx="380520" cy="190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4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14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14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14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33560" y="533520"/>
                <a:ext cx="380880" cy="1905120"/>
                <a:chOff x="3733560" y="533520"/>
                <a:chExt cx="380880" cy="190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3356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3356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3356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3356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3356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257440" y="533520"/>
                <a:ext cx="380520" cy="1905120"/>
                <a:chOff x="5257440" y="533520"/>
                <a:chExt cx="380520" cy="1905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257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57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57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57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57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1828800" y="2438640"/>
              <a:ext cx="1904400" cy="1904400"/>
              <a:chOff x="1828800" y="2438640"/>
              <a:chExt cx="1904400" cy="1904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971440" y="2438640"/>
                <a:ext cx="380880" cy="1904400"/>
                <a:chOff x="2971440" y="2438640"/>
                <a:chExt cx="380880" cy="1904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97144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7144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7144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7144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590560" y="2438640"/>
                <a:ext cx="380520" cy="1904400"/>
                <a:chOff x="2590560" y="2438640"/>
                <a:chExt cx="380520" cy="190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9056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056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9056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59056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9056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209680" y="2438640"/>
                <a:ext cx="380520" cy="1904400"/>
                <a:chOff x="2209680" y="2438640"/>
                <a:chExt cx="380520" cy="190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09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09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209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9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28800" y="2438640"/>
                <a:ext cx="380880" cy="1904400"/>
                <a:chOff x="1828800" y="2438640"/>
                <a:chExt cx="380880" cy="1904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8288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288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288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288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288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352680" y="2438640"/>
                <a:ext cx="380520" cy="1904400"/>
                <a:chOff x="3352680" y="2438640"/>
                <a:chExt cx="380520" cy="1904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352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352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52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52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733560" y="2438640"/>
              <a:ext cx="1904400" cy="1904400"/>
              <a:chOff x="3733560" y="2438640"/>
              <a:chExt cx="1904400" cy="19044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200" y="2438640"/>
                <a:ext cx="380880" cy="1904400"/>
                <a:chOff x="4876200" y="2438640"/>
                <a:chExt cx="380880" cy="1904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2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762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762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762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62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95320" y="2438640"/>
                <a:ext cx="380520" cy="1904400"/>
                <a:chOff x="4495320" y="2438640"/>
                <a:chExt cx="380520" cy="1904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49532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9532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32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9532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114440" y="2438640"/>
                <a:ext cx="380520" cy="1904400"/>
                <a:chOff x="4114440" y="2438640"/>
                <a:chExt cx="380520" cy="1904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14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14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14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14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14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733560" y="2438640"/>
                <a:ext cx="380880" cy="1904400"/>
                <a:chOff x="3733560" y="2438640"/>
                <a:chExt cx="380880" cy="19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3356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3356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3356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3356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3356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257440" y="2438640"/>
                <a:ext cx="380520" cy="1904400"/>
                <a:chOff x="5257440" y="2438640"/>
                <a:chExt cx="380520" cy="1904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7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7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7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57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7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40384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e5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 = (x - 3)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2438280"/>
            <a:ext cx="3809160" cy="3809520"/>
            <a:chOff x="1828800" y="2438280"/>
            <a:chExt cx="3809160" cy="3809520"/>
          </a:xfrm>
        </p:grpSpPr>
        <p:grpSp>
          <p:nvGrpSpPr>
            <p:cNvPr id="237" name=""/>
            <p:cNvGrpSpPr/>
            <p:nvPr/>
          </p:nvGrpSpPr>
          <p:grpSpPr>
            <a:xfrm>
              <a:off x="1828800" y="2438280"/>
              <a:ext cx="1904400" cy="1905120"/>
              <a:chOff x="1828800" y="2438280"/>
              <a:chExt cx="1904400" cy="1905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440" y="2438280"/>
                <a:ext cx="380880" cy="1905120"/>
                <a:chOff x="2971440" y="2438280"/>
                <a:chExt cx="380880" cy="190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44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44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97144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97144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7144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590560" y="2438280"/>
                <a:ext cx="380520" cy="1905120"/>
                <a:chOff x="2590560" y="2438280"/>
                <a:chExt cx="380520" cy="1905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59056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59056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56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59056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9056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209680" y="2438280"/>
                <a:ext cx="380520" cy="1905120"/>
                <a:chOff x="2209680" y="2438280"/>
                <a:chExt cx="380520" cy="1905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209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09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209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209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209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828800" y="2438280"/>
                <a:ext cx="380880" cy="1905120"/>
                <a:chOff x="1828800" y="2438280"/>
                <a:chExt cx="380880" cy="190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8288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288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288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288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288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352680" y="2438280"/>
                <a:ext cx="380520" cy="1905120"/>
                <a:chOff x="3352680" y="2438280"/>
                <a:chExt cx="380520" cy="1905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352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52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52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52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52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3733560" y="2438280"/>
              <a:ext cx="1904400" cy="1905120"/>
              <a:chOff x="3733560" y="2438280"/>
              <a:chExt cx="1904400" cy="19051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76200" y="2438280"/>
                <a:ext cx="380880" cy="1905120"/>
                <a:chOff x="4876200" y="2438280"/>
                <a:chExt cx="380880" cy="1905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762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62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762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762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62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495320" y="2438280"/>
                <a:ext cx="380520" cy="1905120"/>
                <a:chOff x="4495320" y="2438280"/>
                <a:chExt cx="380520" cy="1905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49532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9532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9532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49532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532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114440" y="2438280"/>
                <a:ext cx="380520" cy="1905120"/>
                <a:chOff x="4114440" y="2438280"/>
                <a:chExt cx="380520" cy="19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114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14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14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14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14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733560" y="2438280"/>
                <a:ext cx="380880" cy="1905120"/>
                <a:chOff x="3733560" y="2438280"/>
                <a:chExt cx="380880" cy="1905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3356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73356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356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356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3356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57440" y="2438280"/>
                <a:ext cx="380520" cy="1905120"/>
                <a:chOff x="5257440" y="2438280"/>
                <a:chExt cx="380520" cy="1905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57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57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57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57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57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1828800" y="4343400"/>
              <a:ext cx="1904400" cy="1904400"/>
              <a:chOff x="1828800" y="4343400"/>
              <a:chExt cx="1904400" cy="1904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971440" y="4343400"/>
                <a:ext cx="380880" cy="1904400"/>
                <a:chOff x="2971440" y="4343400"/>
                <a:chExt cx="380880" cy="190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7144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7144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7144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44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7144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590560" y="4343400"/>
                <a:ext cx="380520" cy="1904400"/>
                <a:chOff x="2590560" y="4343400"/>
                <a:chExt cx="380520" cy="1904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56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59056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9056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9056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9056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209680" y="4343400"/>
                <a:ext cx="380520" cy="1904400"/>
                <a:chOff x="2209680" y="4343400"/>
                <a:chExt cx="380520" cy="1904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209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09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09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09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09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28800" y="4343400"/>
                <a:ext cx="380880" cy="1904400"/>
                <a:chOff x="1828800" y="4343400"/>
                <a:chExt cx="380880" cy="1904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288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288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288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288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8288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52680" y="4343400"/>
                <a:ext cx="380520" cy="1904400"/>
                <a:chOff x="3352680" y="4343400"/>
                <a:chExt cx="380520" cy="1904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52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52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2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352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3733560" y="4343400"/>
              <a:ext cx="1904400" cy="1904400"/>
              <a:chOff x="3733560" y="4343400"/>
              <a:chExt cx="1904400" cy="190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876200" y="4343400"/>
                <a:ext cx="380880" cy="1904400"/>
                <a:chOff x="4876200" y="4343400"/>
                <a:chExt cx="380880" cy="1904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62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62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762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62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762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95320" y="4343400"/>
                <a:ext cx="380520" cy="1904400"/>
                <a:chOff x="4495320" y="4343400"/>
                <a:chExt cx="380520" cy="190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49532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9532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9532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9532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9532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14440" y="4343400"/>
                <a:ext cx="380520" cy="1904400"/>
                <a:chOff x="4114440" y="4343400"/>
                <a:chExt cx="380520" cy="190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4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4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14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14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14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33560" y="4343400"/>
                <a:ext cx="380880" cy="1904400"/>
                <a:chOff x="3733560" y="4343400"/>
                <a:chExt cx="380880" cy="190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3356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3356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73356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3356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356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257440" y="4343400"/>
                <a:ext cx="380520" cy="1904400"/>
                <a:chOff x="5257440" y="4343400"/>
                <a:chExt cx="380520" cy="1904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257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57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7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57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57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"/>
          <p:cNvSpPr/>
          <p:nvPr/>
        </p:nvSpPr>
        <p:spPr>
          <a:xfrm>
            <a:off x="2590920" y="304920"/>
            <a:ext cx="0" cy="6553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962520"/>
            <a:ext cx="45720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314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314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31400" y="3352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5410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1400" y="4083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31400" y="4800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502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5080" y="548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140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14600" y="-5486760"/>
            <a:ext cx="2437920" cy="10972440"/>
            <a:chOff x="2514600" y="-5486760"/>
            <a:chExt cx="2437920" cy="10972440"/>
          </a:xfrm>
        </p:grpSpPr>
        <p:sp>
          <p:nvSpPr>
            <p:cNvPr id="378" name=""/>
            <p:cNvSpPr/>
            <p:nvPr/>
          </p:nvSpPr>
          <p:spPr>
            <a:xfrm flipV="1">
              <a:off x="2515320" y="-5487120"/>
              <a:ext cx="243720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14240" y="-5487120"/>
              <a:ext cx="243792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05120" y="51814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5812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3581280"/>
            <a:ext cx="30481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600200"/>
            <a:ext cx="160020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0" y="1089000"/>
            <a:ext cx="2036880" cy="581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971800"/>
            <a:ext cx="1600200" cy="1373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x inter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520" y="4797360"/>
            <a:ext cx="1563120" cy="70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733920" y="228600"/>
            <a:ext cx="0" cy="6019920"/>
          </a:xfrm>
          <a:prstGeom prst="line">
            <a:avLst/>
          </a:prstGeom>
          <a:ln w="57240">
            <a:solidFill>
              <a:srgbClr val="e5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14400">
            <a:off x="2782080" y="1675080"/>
            <a:ext cx="24361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of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84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23560" y="380880"/>
            <a:ext cx="68230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7652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general form of a quadratic function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position, width, and orientation of a particular parabola will depend upon the values of a, b, and 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7080" y="510840"/>
            <a:ext cx="69580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   f(x) = 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      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-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San Juan College</dc:creator>
  <dc:description/>
  <dc:language>en-US</dc:language>
  <cp:lastModifiedBy>Allan H. Bredenfoerder</cp:lastModifiedBy>
  <cp:lastPrinted>1999-09-20T14:50:54Z</cp:lastPrinted>
  <dcterms:modified xsi:type="dcterms:W3CDTF">2006-01-27T14:23:45Z</dcterms:modified>
  <cp:revision>71</cp:revision>
  <dc:subject/>
  <dc:title>QUADRATIC FUN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