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158-3841-4A72-B6C3-D39BD9FA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394-286A-4F12-85DB-C17098DB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980-6416-41FD-8BBA-5E9F33C9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E45-A1B1-4C2A-9CF5-D17282BD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811D-955F-404C-8D87-E477B6B2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146B-07FB-4899-8022-F1B8C752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F785-3D9B-4F51-BD0F-16AEABBC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AC77-EB96-42FD-9CC5-2139AED9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D15A-C793-42B0-B7FE-FD4191C6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63F0-79D5-442C-924A-35053E67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D3A2-D8B9-4149-89D1-6064A497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FC9-4320-42D1-97DE-EAC91AF5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8D54-FAD2-4073-8EF5-F1CDA46B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CF43-EE3F-4636-B4BC-610BEEC0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F9CA-8FBB-46A4-A779-3EB0FE23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7C3C-13F2-490C-8736-D01F136E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0C0B-BE29-4301-B89F-0159A84D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46C-FB6A-4B8A-B2B6-49B081B4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E67-540E-436F-A335-D514D2B4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E5B-4A43-4723-A30D-B8CA3EDC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7F1-7A15-42D4-AA13-468A5EE0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6C7-02FE-43CD-88AB-453A2964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ACB-3A40-4502-819A-9F470A8B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2E2-2E1B-49E0-9FEA-ED36E44A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4955-A543-465B-9E4B-69B22111DD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FC1A-8CE1-4BD1-89C3-23E203310F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6800" y="22096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GRAPH OF A QUADRATIC FUN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6640" y="510840"/>
            <a:ext cx="695016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1752480"/>
            <a:ext cx="8686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Now compare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o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x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+ 3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x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981080" y="335268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638680" y="342900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Vertical shift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4832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Vertical shift d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436320"/>
            <a:ext cx="69454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182880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Now compare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o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(x + 2)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(x – 3)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981080" y="335268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638680" y="342900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4648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Horizontal shift to the lef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4648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Horizontal shift to the r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5040" y="380880"/>
            <a:ext cx="682128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1646280"/>
            <a:ext cx="89154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hen the general form of a quadratic function f(x) = a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+ bx + c is changed to the  vertex form: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f(x) = a(x - h)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e can tell by horizontal and vertical shifting of the parabola where the vertex will b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he parabola will be shifted h units horizontally and k units vertical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36320"/>
            <a:ext cx="69454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676520"/>
            <a:ext cx="9144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hus, a quadratic function written in the for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f(x) = a(x - h)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ill have a vertex at the point (h,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he value of “a” will determine whether the parabola opens up or down (positive or negative) and whether the parabola is narrow or w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18288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(x - h)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Vertex (highest or lowest point):  (h,k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gt; 0, then the parabola opens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lt; 0, then the parabola opens d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98360" y="5486400"/>
                <a:ext cx="87454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  1, then the parabola is more narr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 1, then the parabola is more w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4000" y="436320"/>
            <a:ext cx="69562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828800"/>
            <a:ext cx="91440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xis of Symme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vertical line about which the graph of a quadratic function is symmetr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x = 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where h is the x-coordinate of the vertex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828800"/>
            <a:ext cx="91440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So, if we want to examine the characteristics of the graph of a quadratic function, our job is to transform the general for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nto the vertex for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(x – h)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510840"/>
            <a:ext cx="694548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</a:t>
            </a:r>
            <a:r>
              <a:rPr b="1" lang="en-US" sz="4000" spc="-1" strike="noStrike">
                <a:solidFill>
                  <a:srgbClr val="00ccff"/>
                </a:solidFill>
                <a:latin typeface="Arial Rounded MT Bold"/>
              </a:rPr>
              <a:t>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2362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is will require to process of completing the square which is a </a:t>
            </a:r>
            <a:r>
              <a:rPr b="1" lang="en-US" sz="3600" spc="-1" strike="noStrike">
                <a:solidFill>
                  <a:srgbClr val="00ccff"/>
                </a:solidFill>
                <a:latin typeface="Arial Rounded MT Bold"/>
              </a:rPr>
              <a:t>little different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han completing the square to solve a quadratic equ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28600" y="838080"/>
            <a:ext cx="8429760" cy="302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raphing Quadratic Functions </a:t>
            </a:r>
            <a:endParaRPr b="0" lang="en-US" sz="6600" spc="1" strike="noStrike">
              <a:ln w="2232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 Completing the Square</a:t>
            </a:r>
            <a:endParaRPr b="0" lang="en-US" sz="6600" spc="1" strike="noStrike">
              <a:ln w="2232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178160" y="3314880"/>
          <a:ext cx="3289320" cy="34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3314880"/>
                    <a:ext cx="3289320" cy="34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24160" y="66996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tor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5480" y="6858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3)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3) or 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3)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2171520" y="72360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152388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Perfect Squa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rinom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16765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40880" y="1616040"/>
            <a:ext cx="369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he factors are in the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r 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1080" y="2498760"/>
            <a:ext cx="85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e the relationship between the middle term and the last ter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4680" y="2895480"/>
            <a:ext cx="66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he last term is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one-half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he middle term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squared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6560" y="4098960"/>
            <a:ext cx="780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d the value of the last term that will make the follow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fect square trinomi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3360" y="502920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e5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 14</a:t>
            </a: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360" y="5562720"/>
            <a:ext cx="24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e5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 7</a:t>
            </a: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720" y="6156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e5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- 3</a:t>
            </a: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e5ffff"/>
                </a:solidFill>
                <a:latin typeface="Times New Roman"/>
              </a:rPr>
              <a:t>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5029200"/>
            <a:ext cx="1371600" cy="3049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3080" y="49528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7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657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5638680"/>
            <a:ext cx="1371600" cy="3049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6248520"/>
            <a:ext cx="1371600" cy="3045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7440" y="5016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8760" y="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member about Perfect Square Trinom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600200" y="3338640"/>
          <a:ext cx="106668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38640"/>
                    <a:ext cx="10666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2598120" y="350676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62680" y="3519360"/>
            <a:ext cx="6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362320" y="5410080"/>
          <a:ext cx="3236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5410080"/>
                    <a:ext cx="323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2438280" y="6019920"/>
          <a:ext cx="209520" cy="53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6019920"/>
                    <a:ext cx="209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6172200" y="5421240"/>
          <a:ext cx="91440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5421240"/>
                    <a:ext cx="9144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6172200" y="6045120"/>
          <a:ext cx="914400" cy="65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6045120"/>
                    <a:ext cx="9144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6640" y="510840"/>
            <a:ext cx="695016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52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 quadratic function is a function of the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048120"/>
            <a:ext cx="4114800" cy="914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114800"/>
            <a:ext cx="914400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here a, b &amp; c are real numbers and a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domain of a quadratic function is all real numb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95560" y="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hanging from Standard Form to Vertex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600" y="838080"/>
            <a:ext cx="91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23 in the form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Sketch the grap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98400" y="1676520"/>
            <a:ext cx="3160080" cy="3682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1.  Bracket the first two terms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5440" y="144792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6600" y="1981080"/>
            <a:ext cx="45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____  -  ____) +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632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252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06680" y="2362320"/>
            <a:ext cx="3522960" cy="19234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.  Add a value within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rackets to make a per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quare trinomial. Whate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you add must be sub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o keep the value of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unction the sa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320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750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94800" y="4449600"/>
            <a:ext cx="325476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3.  Group the perfect squ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rinom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93720" y="5440320"/>
            <a:ext cx="324864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4.  Factor the trinomi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4000" y="2514600"/>
            <a:ext cx="37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5080" y="3048120"/>
            <a:ext cx="19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5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24080" y="4038480"/>
            <a:ext cx="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4952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905480" y="1980360"/>
            <a:ext cx="1218240" cy="33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828440" y="1980360"/>
            <a:ext cx="1066320" cy="33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525780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61040" y="54705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-5, -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-44280" y="-7632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hanging from Standard Form to Vertex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600" y="503280"/>
            <a:ext cx="90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11 in the form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Sketch the grap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46120" y="1112760"/>
            <a:ext cx="3160080" cy="3682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1.  Bracket the first two terms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5440" y="111276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 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 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- 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4360" y="202716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____  -  ____) -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0000" y="1112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2520" y="1112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41440" y="2514600"/>
            <a:ext cx="3587040" cy="19234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3.  Add a value within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rackets to make a per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quare trinomial. Whatev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you add must be sub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o keep the value of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unction the sa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64120" y="202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7120" y="202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41800" y="4572000"/>
            <a:ext cx="3521160" cy="131364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4.  Group the perfect squ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rinomial. When grou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he trinomial, remember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istribute the coeffici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6041880"/>
            <a:ext cx="327348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5.  Factor the trinomi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3886200"/>
            <a:ext cx="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480" y="48769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753200" y="2742840"/>
            <a:ext cx="12182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752120" y="2742840"/>
            <a:ext cx="106632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601992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63040" y="6095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3, -2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41080" y="1646280"/>
            <a:ext cx="322704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. Factor out the coeffici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f the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e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5080" y="156996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  - 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1080" y="2484360"/>
            <a:ext cx="33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8440" y="30178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= 2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3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50800" y="3322800"/>
            <a:ext cx="383544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, when you rem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is term from the bracke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3885000">
            <a:off x="662040" y="2584440"/>
            <a:ext cx="762120" cy="257040"/>
          </a:xfrm>
          <a:prstGeom prst="leftArrow">
            <a:avLst>
              <a:gd name="adj1" fmla="val 50000"/>
              <a:gd name="adj2" fmla="val 7412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3985800">
            <a:off x="2514240" y="187452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3429000" y="2514600"/>
                <a:ext cx="9907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000"/>
                            </p:stCondLst>
                            <p:childTnLst>
                              <p:par>
                                <p:cTn id="81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6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65120" y="45720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-3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9080" y="1128600"/>
            <a:ext cx="26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 -3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80640" y="114300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          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3520" y="17384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y = -3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8720" y="250020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-3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______  -  ______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314880" y="2259000"/>
          <a:ext cx="39816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2259000"/>
                    <a:ext cx="3981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4876920" y="2239920"/>
          <a:ext cx="39852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39920"/>
                    <a:ext cx="3985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470520" y="3200400"/>
            <a:ext cx="43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3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670200" y="3154320"/>
          <a:ext cx="598680" cy="6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3154320"/>
                    <a:ext cx="5986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475920" y="4038480"/>
            <a:ext cx="34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-3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 )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962440" y="3967200"/>
          <a:ext cx="444240" cy="71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62440" y="3967200"/>
                    <a:ext cx="4442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474120" y="493884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-3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    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048120" y="4862520"/>
          <a:ext cx="444240" cy="71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4862520"/>
                    <a:ext cx="4442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3505320" y="4862520"/>
          <a:ext cx="642960" cy="71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4862520"/>
                    <a:ext cx="64296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474120" y="579132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-3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    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3048120" y="5715000"/>
          <a:ext cx="44604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5715000"/>
                    <a:ext cx="4460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5549040" y="5029200"/>
            <a:ext cx="16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ertex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7238880" y="4903920"/>
          <a:ext cx="1163880" cy="887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38880" y="4903920"/>
                    <a:ext cx="11638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2959560" y="-763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mpleting the Squ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120760" y="1676520"/>
          <a:ext cx="268560" cy="685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20760" y="1676520"/>
                    <a:ext cx="268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2127240" y="2425680"/>
          <a:ext cx="277920" cy="711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27240" y="2425680"/>
                    <a:ext cx="277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2070000" y="3124080"/>
          <a:ext cx="277920" cy="711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70000" y="3124080"/>
                    <a:ext cx="277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3022560" y="3124080"/>
          <a:ext cx="398520" cy="64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22560" y="3124080"/>
                    <a:ext cx="3985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2023920" y="3962520"/>
          <a:ext cx="277920" cy="711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023920" y="3962520"/>
                    <a:ext cx="2779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2031840" y="4876920"/>
          <a:ext cx="277920" cy="711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31840" y="4876920"/>
                    <a:ext cx="2779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2044800" y="5729400"/>
          <a:ext cx="277560" cy="711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044800" y="5729400"/>
                    <a:ext cx="2775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5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1066680" y="0"/>
            <a:ext cx="6553440" cy="35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 Vertex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828800" y="3352680"/>
            <a:ext cx="6248520" cy="316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ormul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5715000" y="2666880"/>
            <a:ext cx="2971800" cy="1905120"/>
          </a:xfrm>
          <a:prstGeom prst="rect">
            <a:avLst/>
          </a:prstGeom>
          <a:solidFill>
            <a:srgbClr val="ffffcc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880" y="137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62240" y="1828800"/>
            <a:ext cx="23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2362320"/>
          <a:ext cx="236232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236232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457200" y="3200400"/>
          <a:ext cx="396252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00400"/>
                    <a:ext cx="39625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457200" y="4191120"/>
          <a:ext cx="449568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191120"/>
                    <a:ext cx="44956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5522760" y="1332000"/>
                <a:ext cx="32785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5926320" y="2733840"/>
            <a:ext cx="23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e vertex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6121440" y="3478320"/>
          <a:ext cx="2413080" cy="94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21440" y="3478320"/>
                    <a:ext cx="241308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457200" y="380880"/>
            <a:ext cx="821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the general form,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complete the squa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24360" y="-61920"/>
            <a:ext cx="67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5ffff"/>
                </a:solidFill>
                <a:uFillTx/>
                <a:latin typeface="Times New Roman"/>
              </a:rPr>
              <a:t>Completing the Square - The General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4876920"/>
            <a:ext cx="3162600" cy="1465560"/>
          </a:xfrm>
          <a:prstGeom prst="rect">
            <a:avLst/>
          </a:prstGeom>
          <a:solidFill>
            <a:srgbClr val="e5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s IS the vertex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t 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asi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st to remember that the x-value is       and then plug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n to the equation to get the y-value for the vertex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4419720"/>
            <a:ext cx="4856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162920" y="5486400"/>
                <a:ext cx="245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839880" y="5257800"/>
                <a:ext cx="2992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78000" y="457200"/>
            <a:ext cx="7427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ind the vertex and the maximum or minimum valu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7240" y="92700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8360" y="1496880"/>
            <a:ext cx="54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axis of symmetry, the vertex 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1440" y="220968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value of the vertex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219320" y="2743200"/>
          <a:ext cx="11430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11430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257480" y="3809880"/>
          <a:ext cx="16002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7480" y="3809880"/>
                    <a:ext cx="1600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1295280" y="4876920"/>
          <a:ext cx="990720" cy="76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876920"/>
                    <a:ext cx="99072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4341600" y="2209680"/>
            <a:ext cx="40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value of the vertex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77160" y="-61920"/>
            <a:ext cx="41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Using the Vertex Formu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4920" y="55627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ertex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57200" y="5943600"/>
          <a:ext cx="121752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943600"/>
                    <a:ext cx="12175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3655440" y="5105520"/>
            <a:ext cx="4478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 there is a maximum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14, w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867280" y="5562720"/>
          <a:ext cx="520920" cy="69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5562720"/>
                    <a:ext cx="5209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791320" y="1371600"/>
                <a:ext cx="1752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343400" y="2743200"/>
                <a:ext cx="19810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343400" y="3657600"/>
                <a:ext cx="44481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 of the Parabo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6400" y="2124000"/>
            <a:ext cx="3956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the coefficient of 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sitiv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parabola will open up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3440" y="2187360"/>
            <a:ext cx="40370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the coefficient of 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negativ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parabola will open dow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523880" y="2514240"/>
            <a:ext cx="1904400" cy="3200040"/>
            <a:chOff x="1523880" y="2514240"/>
            <a:chExt cx="1904400" cy="3200040"/>
          </a:xfrm>
        </p:grpSpPr>
        <p:sp>
          <p:nvSpPr>
            <p:cNvPr id="587" name=""/>
            <p:cNvSpPr/>
            <p:nvPr/>
          </p:nvSpPr>
          <p:spPr>
            <a:xfrm flipV="1">
              <a:off x="1524600" y="2513880"/>
              <a:ext cx="1903680" cy="32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1523520" y="2513880"/>
              <a:ext cx="1904400" cy="32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715000" y="4420440"/>
            <a:ext cx="1904400" cy="2742840"/>
            <a:chOff x="5715000" y="4420440"/>
            <a:chExt cx="1904400" cy="2742840"/>
          </a:xfrm>
        </p:grpSpPr>
        <p:sp>
          <p:nvSpPr>
            <p:cNvPr id="590" name=""/>
            <p:cNvSpPr/>
            <p:nvPr/>
          </p:nvSpPr>
          <p:spPr>
            <a:xfrm>
              <a:off x="5715720" y="4420440"/>
              <a:ext cx="190368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5715000" y="4420440"/>
              <a:ext cx="190440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0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5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0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5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0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6640" y="436320"/>
            <a:ext cx="695016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Arial Rounded MT Bold"/>
              </a:rPr>
              <a:t>CHARACTERISTICS OF THE GRAPH OF A QUADRATIC FUNCTIO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228600" y="2666880"/>
                <a:ext cx="87613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TEX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-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f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-b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a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      AXIS OF SYMMETRY:    x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-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6680" y="4038480"/>
            <a:ext cx="7543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Parabola opens up and has a minimum value if a &gt; 0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Parabola opens down and has a maximum value if a &lt; 0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2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EXAMP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175248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Determine without graphing whether the given quadratic function has a maximum or minimum value and then find the value.  Verify by grap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4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8x + 3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g(x) =  -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8x +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9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4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THE X AND Y INTERCEPTS OF A QUADRATIC FUN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129528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Find the x-intercepts by setting the quadratic function equal to zero and solve by whatever method is easi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f the discriminant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4ac &gt; 0, the graph of f(x) = 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+ bx + c has two distinct x-intercepts and will cross the x-axis tw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3. If the discriminant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– 4ac = 0, the graph of f(x) = 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+ bx + c has one x-intercept and touches the x-axis at its vert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4. If the discriminant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– 4ac &lt; 0, the graph of f(x) = 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+ bx + c has no x-intercept and will not cross or touch the x-ax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5. Find the y-intercept by substituting x=0 into fun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1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6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1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6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1" dur="5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436320"/>
            <a:ext cx="69562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7652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s we’ve already seen,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graphs into a PARABOL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is is the simplest quadratic function we can think of.  We will use this one as a model by which to compare all other quadratic functions we will exam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9562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ING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182232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Graph the functions below by hand by determining whether its graph opens up or down and by finding its vertex, axis of symmetry, y-intercept, and x-intercepts, if any.  Verify your results using a graphing calculat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3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g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6x -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h(x) = 3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6x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k(x) = -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6x +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8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3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8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9720" y="588960"/>
            <a:ext cx="6953040" cy="10936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VERTEX OF A PARABOL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057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ll parabolas have a VERTEX, the lowest or highest point on the graph (depending upon whether it opens up or down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88960"/>
            <a:ext cx="6958080" cy="10936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AXIS OF SYMMET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057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ll parabolas have an AXIS OF SYMMETRY, an imaginary line which goes through the vertex and about which the parabola is symmetr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436320"/>
            <a:ext cx="695304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HOW PARABOLAS DIFF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057400"/>
            <a:ext cx="9144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Some parabolas open up and some open d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Parabolas will all have a different vertex and a different axis of symmet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Some parabolas will be wide and some will be narr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828800" y="533520"/>
            <a:ext cx="3809160" cy="3809520"/>
            <a:chOff x="1828800" y="533520"/>
            <a:chExt cx="3809160" cy="3809520"/>
          </a:xfrm>
        </p:grpSpPr>
        <p:grpSp>
          <p:nvGrpSpPr>
            <p:cNvPr id="95" name=""/>
            <p:cNvGrpSpPr/>
            <p:nvPr/>
          </p:nvGrpSpPr>
          <p:grpSpPr>
            <a:xfrm>
              <a:off x="1828800" y="533520"/>
              <a:ext cx="1904400" cy="1905120"/>
              <a:chOff x="1828800" y="533520"/>
              <a:chExt cx="1904400" cy="19051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2971440" y="533520"/>
                <a:ext cx="380880" cy="1905120"/>
                <a:chOff x="2971440" y="533520"/>
                <a:chExt cx="380880" cy="1905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7144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7144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7144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97144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97144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590560" y="533520"/>
                <a:ext cx="380520" cy="1905120"/>
                <a:chOff x="2590560" y="533520"/>
                <a:chExt cx="380520" cy="1905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59056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59056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59056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59056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59056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209680" y="533520"/>
                <a:ext cx="380520" cy="1905120"/>
                <a:chOff x="2209680" y="533520"/>
                <a:chExt cx="380520" cy="1905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0968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20968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20968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20968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20968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828800" y="533520"/>
                <a:ext cx="380880" cy="1905120"/>
                <a:chOff x="1828800" y="533520"/>
                <a:chExt cx="380880" cy="1905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82880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82880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82880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82880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2880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352680" y="533520"/>
                <a:ext cx="380520" cy="1905120"/>
                <a:chOff x="3352680" y="533520"/>
                <a:chExt cx="380520" cy="1905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35268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35268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35268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35268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35268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3733560" y="533520"/>
              <a:ext cx="1904400" cy="1905120"/>
              <a:chOff x="3733560" y="533520"/>
              <a:chExt cx="1904400" cy="190512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4876200" y="533520"/>
                <a:ext cx="380880" cy="1905120"/>
                <a:chOff x="4876200" y="533520"/>
                <a:chExt cx="380880" cy="1905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87620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87620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87620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87620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7620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495320" y="533520"/>
                <a:ext cx="380520" cy="1905120"/>
                <a:chOff x="4495320" y="533520"/>
                <a:chExt cx="380520" cy="1905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532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49532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49532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9532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49532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14440" y="533520"/>
                <a:ext cx="380520" cy="1905120"/>
                <a:chOff x="4114440" y="533520"/>
                <a:chExt cx="380520" cy="1905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11444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1444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11444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11444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11444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733560" y="533520"/>
                <a:ext cx="380880" cy="1905120"/>
                <a:chOff x="3733560" y="533520"/>
                <a:chExt cx="380880" cy="1905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73356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73356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73356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73356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73356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257440" y="533520"/>
                <a:ext cx="380520" cy="1905120"/>
                <a:chOff x="5257440" y="533520"/>
                <a:chExt cx="380520" cy="1905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25744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5744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25744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5744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25744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1828800" y="2438640"/>
              <a:ext cx="1904400" cy="1904400"/>
              <a:chOff x="1828800" y="2438640"/>
              <a:chExt cx="1904400" cy="19044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971440" y="2438640"/>
                <a:ext cx="380880" cy="1904400"/>
                <a:chOff x="2971440" y="2438640"/>
                <a:chExt cx="380880" cy="19044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97144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97144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7144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97144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97144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590560" y="2438640"/>
                <a:ext cx="380520" cy="1904400"/>
                <a:chOff x="2590560" y="2438640"/>
                <a:chExt cx="380520" cy="19044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59056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9056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59056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59056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59056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209680" y="2438640"/>
                <a:ext cx="380520" cy="1904400"/>
                <a:chOff x="2209680" y="2438640"/>
                <a:chExt cx="380520" cy="1904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20968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20968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20968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20968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828800" y="2438640"/>
                <a:ext cx="380880" cy="1904400"/>
                <a:chOff x="1828800" y="2438640"/>
                <a:chExt cx="380880" cy="1904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82880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2880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82880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82880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82880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352680" y="2438640"/>
                <a:ext cx="380520" cy="1904400"/>
                <a:chOff x="3352680" y="2438640"/>
                <a:chExt cx="380520" cy="19044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35268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35268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35268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35268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35268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3733560" y="2438640"/>
              <a:ext cx="1904400" cy="1904400"/>
              <a:chOff x="3733560" y="2438640"/>
              <a:chExt cx="1904400" cy="19044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4876200" y="2438640"/>
                <a:ext cx="380880" cy="1904400"/>
                <a:chOff x="4876200" y="2438640"/>
                <a:chExt cx="380880" cy="19044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87620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87620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7620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87620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7620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495320" y="2438640"/>
                <a:ext cx="380520" cy="1904400"/>
                <a:chOff x="4495320" y="2438640"/>
                <a:chExt cx="380520" cy="19044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49532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49532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9532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9532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49532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114440" y="2438640"/>
                <a:ext cx="380520" cy="1904400"/>
                <a:chOff x="4114440" y="2438640"/>
                <a:chExt cx="380520" cy="19044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11444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1444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1444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1444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1444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733560" y="2438640"/>
                <a:ext cx="380880" cy="1904400"/>
                <a:chOff x="3733560" y="2438640"/>
                <a:chExt cx="380880" cy="1904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73356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3356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73356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73356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3356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5257440" y="2438640"/>
                <a:ext cx="380520" cy="1904400"/>
                <a:chOff x="5257440" y="2438640"/>
                <a:chExt cx="380520" cy="19044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25744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5744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5744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5744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5744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76920" y="-360"/>
            <a:ext cx="40384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e5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 = (x - 3)</a:t>
            </a:r>
            <a:r>
              <a:rPr b="0" lang="en-US" sz="4400" spc="-1" strike="noStrike" baseline="30000">
                <a:solidFill>
                  <a:srgbClr val="e5ffff"/>
                </a:solidFill>
                <a:latin typeface="Tahoma"/>
              </a:rPr>
              <a:t>2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121932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1000" y="121932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19810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1000" y="19810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6668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01000" y="26668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3526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33526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40384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40384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48006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1000" y="48006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54864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01000" y="54864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61722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61722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28800" y="2438280"/>
            <a:ext cx="3809160" cy="3809520"/>
            <a:chOff x="1828800" y="2438280"/>
            <a:chExt cx="3809160" cy="3809520"/>
          </a:xfrm>
        </p:grpSpPr>
        <p:grpSp>
          <p:nvGrpSpPr>
            <p:cNvPr id="237" name=""/>
            <p:cNvGrpSpPr/>
            <p:nvPr/>
          </p:nvGrpSpPr>
          <p:grpSpPr>
            <a:xfrm>
              <a:off x="1828800" y="2438280"/>
              <a:ext cx="1904400" cy="1905120"/>
              <a:chOff x="1828800" y="2438280"/>
              <a:chExt cx="1904400" cy="19051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2971440" y="2438280"/>
                <a:ext cx="380880" cy="1905120"/>
                <a:chOff x="2971440" y="2438280"/>
                <a:chExt cx="380880" cy="1905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97144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97144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97144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97144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97144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590560" y="2438280"/>
                <a:ext cx="380520" cy="1905120"/>
                <a:chOff x="2590560" y="2438280"/>
                <a:chExt cx="380520" cy="1905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59056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59056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59056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59056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59056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2209680" y="2438280"/>
                <a:ext cx="380520" cy="1905120"/>
                <a:chOff x="2209680" y="2438280"/>
                <a:chExt cx="380520" cy="1905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20968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20968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20968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20968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20968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828800" y="2438280"/>
                <a:ext cx="380880" cy="1905120"/>
                <a:chOff x="1828800" y="2438280"/>
                <a:chExt cx="380880" cy="1905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82880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82880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2880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82880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2880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352680" y="2438280"/>
                <a:ext cx="380520" cy="1905120"/>
                <a:chOff x="3352680" y="2438280"/>
                <a:chExt cx="380520" cy="1905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35268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35268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35268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35268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35268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3733560" y="2438280"/>
              <a:ext cx="1904400" cy="1905120"/>
              <a:chOff x="3733560" y="2438280"/>
              <a:chExt cx="1904400" cy="190512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876200" y="2438280"/>
                <a:ext cx="380880" cy="1905120"/>
                <a:chOff x="4876200" y="2438280"/>
                <a:chExt cx="380880" cy="19051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87620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87620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87620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87620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87620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495320" y="2438280"/>
                <a:ext cx="380520" cy="1905120"/>
                <a:chOff x="4495320" y="2438280"/>
                <a:chExt cx="380520" cy="1905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49532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49532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49532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49532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49532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114440" y="2438280"/>
                <a:ext cx="380520" cy="1905120"/>
                <a:chOff x="4114440" y="2438280"/>
                <a:chExt cx="380520" cy="1905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11444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11444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11444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11444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11444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733560" y="2438280"/>
                <a:ext cx="380880" cy="1905120"/>
                <a:chOff x="3733560" y="2438280"/>
                <a:chExt cx="380880" cy="1905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73356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73356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73356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73356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73356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57440" y="2438280"/>
                <a:ext cx="380520" cy="1905120"/>
                <a:chOff x="5257440" y="2438280"/>
                <a:chExt cx="380520" cy="1905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5744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5744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25744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5744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25744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" name=""/>
            <p:cNvGrpSpPr/>
            <p:nvPr/>
          </p:nvGrpSpPr>
          <p:grpSpPr>
            <a:xfrm>
              <a:off x="1828800" y="4343400"/>
              <a:ext cx="1904400" cy="1904400"/>
              <a:chOff x="1828800" y="4343400"/>
              <a:chExt cx="1904400" cy="190440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2971440" y="4343400"/>
                <a:ext cx="380880" cy="1904400"/>
                <a:chOff x="2971440" y="4343400"/>
                <a:chExt cx="380880" cy="19044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97144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97144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7144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97144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97144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590560" y="4343400"/>
                <a:ext cx="380520" cy="1904400"/>
                <a:chOff x="2590560" y="4343400"/>
                <a:chExt cx="380520" cy="19044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59056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59056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59056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59056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59056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209680" y="4343400"/>
                <a:ext cx="380520" cy="1904400"/>
                <a:chOff x="2209680" y="4343400"/>
                <a:chExt cx="380520" cy="1904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20968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0968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0968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0968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0968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828800" y="4343400"/>
                <a:ext cx="380880" cy="1904400"/>
                <a:chOff x="1828800" y="4343400"/>
                <a:chExt cx="380880" cy="19044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82880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82880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82880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82880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82880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352680" y="4343400"/>
                <a:ext cx="380520" cy="1904400"/>
                <a:chOff x="3352680" y="4343400"/>
                <a:chExt cx="380520" cy="19044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35268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35268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5268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35268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35268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0" name=""/>
            <p:cNvGrpSpPr/>
            <p:nvPr/>
          </p:nvGrpSpPr>
          <p:grpSpPr>
            <a:xfrm>
              <a:off x="3733560" y="4343400"/>
              <a:ext cx="1904400" cy="1904400"/>
              <a:chOff x="3733560" y="4343400"/>
              <a:chExt cx="1904400" cy="19044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4876200" y="4343400"/>
                <a:ext cx="380880" cy="1904400"/>
                <a:chOff x="4876200" y="4343400"/>
                <a:chExt cx="380880" cy="19044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87620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87620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87620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87620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87620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95320" y="4343400"/>
                <a:ext cx="380520" cy="1904400"/>
                <a:chOff x="4495320" y="4343400"/>
                <a:chExt cx="380520" cy="1904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49532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9532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49532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49532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49532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114440" y="4343400"/>
                <a:ext cx="380520" cy="1904400"/>
                <a:chOff x="4114440" y="4343400"/>
                <a:chExt cx="380520" cy="19044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11444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11444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11444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11444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11444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3733560" y="4343400"/>
                <a:ext cx="380880" cy="1904400"/>
                <a:chOff x="3733560" y="4343400"/>
                <a:chExt cx="380880" cy="19044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73356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73356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73356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73356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73356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257440" y="4343400"/>
                <a:ext cx="380520" cy="1904400"/>
                <a:chOff x="5257440" y="4343400"/>
                <a:chExt cx="380520" cy="19044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25744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25744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25744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25744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25744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"/>
          <p:cNvSpPr/>
          <p:nvPr/>
        </p:nvSpPr>
        <p:spPr>
          <a:xfrm>
            <a:off x="2590920" y="304920"/>
            <a:ext cx="0" cy="6553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3962520"/>
            <a:ext cx="45720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0600" y="1981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14600" y="1981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23140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31400" y="2666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3886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5029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31400" y="33526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57600" y="5410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31400" y="40831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31400" y="48006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5029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55080" y="5486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86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31400" y="621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14600" y="-5486760"/>
            <a:ext cx="2437920" cy="10972440"/>
            <a:chOff x="2514600" y="-5486760"/>
            <a:chExt cx="2437920" cy="10972440"/>
          </a:xfrm>
        </p:grpSpPr>
        <p:sp>
          <p:nvSpPr>
            <p:cNvPr id="378" name=""/>
            <p:cNvSpPr/>
            <p:nvPr/>
          </p:nvSpPr>
          <p:spPr>
            <a:xfrm flipV="1">
              <a:off x="2515320" y="-5487120"/>
              <a:ext cx="2437200" cy="109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2514240" y="-5487120"/>
              <a:ext cx="2437920" cy="109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905120" y="5181480"/>
            <a:ext cx="167616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3581280"/>
            <a:ext cx="167616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3581280"/>
            <a:ext cx="30481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1600200"/>
            <a:ext cx="160020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60" y="1089000"/>
            <a:ext cx="2036880" cy="581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2971800"/>
            <a:ext cx="1600200" cy="1373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x inter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1520" y="4797360"/>
            <a:ext cx="1563120" cy="70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rte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733920" y="228600"/>
            <a:ext cx="0" cy="6019920"/>
          </a:xfrm>
          <a:prstGeom prst="line">
            <a:avLst/>
          </a:prstGeom>
          <a:ln w="57240">
            <a:solidFill>
              <a:srgbClr val="e5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5414400">
            <a:off x="2782080" y="1675080"/>
            <a:ext cx="24361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is of Sym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7840" y="15228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5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23560" y="380880"/>
            <a:ext cx="682308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67652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general form of a quadratic function i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position, width, and orientation of a particular parabola will depend upon the values of a, b, and 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7080" y="510840"/>
            <a:ext cx="695808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18288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Compare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o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   f(x) = .5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       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-.5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gt; 0, then the parabola opens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lt; 0, then the parabola opens d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98360" y="5486400"/>
                <a:ext cx="87454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  1, then the parabola is more narr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  1, then the parabola is more w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San Juan College</dc:creator>
  <dc:description/>
  <dc:language>en-US</dc:language>
  <cp:lastModifiedBy>Allan H. Bredenfoerder</cp:lastModifiedBy>
  <cp:lastPrinted>1999-09-20T14:50:54Z</cp:lastPrinted>
  <dcterms:modified xsi:type="dcterms:W3CDTF">2006-01-27T14:23:45Z</dcterms:modified>
  <cp:revision>71</cp:revision>
  <dc:subject/>
  <dc:title>QUADRATIC FUN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