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170-64F1-45BD-B98C-8A7BEB28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921-82EC-462F-9E75-B06432BC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63E-FD98-4646-91E0-33CF76D3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B4A-D4E9-447F-B74F-B28034A4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AF6-DC3A-40D2-A3E1-93701044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F19-1EA7-446D-9D85-D7BF6161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757-760A-4B5F-836C-34CBA4FE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14A-BBCD-4DC1-8FCD-8C7A1284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E81-C83B-4D7E-8178-17FE3892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3756-998D-40DA-9C8E-D73F255D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4D7-7347-4896-A5CD-43000334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E28-5B5B-488F-BD3A-D2FA6ED5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6752-D0A0-45D4-94A0-D0511AD3F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Tak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equations represents the line that passes through the points           (4, 5) and (2, -3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y =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½ 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3x –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– y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800600"/>
            <a:ext cx="32763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(x – 6) = 5x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         B.  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2666880"/>
            <a:ext cx="19047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– 3) (x + 2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2, 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-2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3200400"/>
            <a:ext cx="19047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1/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038480"/>
            <a:ext cx="19051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38280" y="2286000"/>
                <a:ext cx="266724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530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362320" y="1600200"/>
                <a:ext cx="452124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8954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91440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20040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7242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90720" y="4208400"/>
                <a:ext cx="156204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248520" y="3809880"/>
            <a:ext cx="1904760" cy="2057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553080" y="4191120"/>
                <a:ext cx="213372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362320" y="1600200"/>
                <a:ext cx="452124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998800" y="4191120"/>
                <a:ext cx="13939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91440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20040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+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724280" y="4240080"/>
                <a:ext cx="16002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12680" y="4208400"/>
                <a:ext cx="15177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419720" y="3886200"/>
            <a:ext cx="1904760" cy="2057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equality is graphed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x +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B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2x + 2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y &gt; -2x +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D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x + 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34040" y="1905120"/>
            <a:ext cx="3009960" cy="295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5334120"/>
            <a:ext cx="304776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equality is graphed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x 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B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3x - 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x 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D.  y &lt; 3x -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334120"/>
            <a:ext cx="304812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34040" y="1905120"/>
            <a:ext cx="3009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et of numbers is fin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eal numbers greater than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ational numbers between 1 and 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whole numbers with tens digits at zero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odd numbers between 2 and 9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962520"/>
            <a:ext cx="739116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is selecting an outfit from among 6 pairs of pants, 4 shirts, and 5 pairs of shoes.  How many different outfits consisting of 1 pair of pants, 1 shirt, and 1 pair of shoes are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 15       B.  120           C.  44         D.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952880"/>
            <a:ext cx="2438640" cy="12193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wants to make a sandwich.  He has 4 types of meat, 3 types of cheese, and 2 types of sandwich spreads.  If Lee chooses 1 meet, 1 cheese, and 1 sandwich spread, how many different combinations are possible for his sandwi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 9       B.  12           C.  24          D. 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4876920"/>
            <a:ext cx="2438640" cy="12189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an example of independent ev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ling two number cu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the order of people standing in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2 pieces of candy, one piece at a time, from a bag containing four different fla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names out of a hat without replacement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590920"/>
            <a:ext cx="533376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ha took a cab from her home to the Promenade Mall.  She left at 7:00 p.m. and arrived at 7:25 p.m.  The cab company charges a flat fee of $5 plus $0.75 per mile.  Which equation represents C, the total cost of her ride, in terms of m, the length of the trip in miles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 + 75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m + 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 + 0.7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(5 + 0.75)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876920"/>
            <a:ext cx="320040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tern is described below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term is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term is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erm after the second is found by adding 5 to the immediately preceding te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ixth term in this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5105520"/>
            <a:ext cx="21337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has $40.00.  A gallon of milk costs $3.89, including tax.  What is the greatest number of galloons of milk he can bu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.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.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971800"/>
            <a:ext cx="19051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equation repres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triple the sum of three x and four m equals 15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) + 4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 + 4m)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 + 4)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x + 4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124080"/>
            <a:ext cx="4267080" cy="7621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3 different flags to fly on his flagpole:  red®, yellow (Y) and blue (B).  If all 3 flags are to be flown together, what is the outcome set of how they can be displa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, Y,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, RB, Y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B, BRY, YBR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B, RBY, BRY, BYR, YRB, YBR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5410080"/>
            <a:ext cx="8229600" cy="6858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7:20:13Z</dcterms:created>
  <dc:creator>cdolezal</dc:creator>
  <dc:description/>
  <dc:language>en-US</dc:language>
  <cp:lastModifiedBy>cdolezal</cp:lastModifiedBy>
  <dcterms:modified xsi:type="dcterms:W3CDTF">2008-03-22T18:05:42Z</dcterms:modified>
  <cp:revision>3</cp:revision>
  <dc:subject/>
  <dc:title>Test Taking Strategies</dc:title>
</cp:coreProperties>
</file>