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62ED-C9F8-4213-8BC6-B38DB6000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55EE-3C15-4529-A1B6-3540E887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3BD4-C005-4AC5-9D86-1D10E4C7B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AFE4-E9C7-4EFC-89BB-54720743C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F2DD-943D-416D-BD86-F48EF56B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373C-03A6-4CE5-8B5B-9D17A222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FA28-2F64-46BD-8416-7F0B648C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B0F6-FF9E-499D-B5E2-D0673089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68C6-8A69-4380-8F2A-1FE25D6E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20C8-EAA0-4277-ADFC-AE3CA48A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5958-E4F8-4266-99C7-EF344DAA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8DED-E68A-448D-920D-42C95DED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EF1C-1646-4D84-9D49-DECE8AC4D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Taking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Back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Back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equations represents the line that passes through the points           (4, 5) and (2, -3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 + y =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½ x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3x –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x – y =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4800600"/>
            <a:ext cx="3276360" cy="914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Back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solution to the equation be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(x – 6) = 5x +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          B.  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-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2666880"/>
            <a:ext cx="1904760" cy="914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Back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solution to the equation be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 – 3) (x + 2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2, -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-2,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05720" y="3200400"/>
            <a:ext cx="1904760" cy="914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Back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olution to the equation bel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 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 1/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038480"/>
            <a:ext cx="1905120" cy="914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438280" y="2286000"/>
                <a:ext cx="2667240" cy="17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ing for Answer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All the Right Pl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553080" y="4191120"/>
                <a:ext cx="160020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362320" y="1600200"/>
                <a:ext cx="452124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895480" y="4191120"/>
                <a:ext cx="160020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914400" y="17524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320040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2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724280" y="4191120"/>
                <a:ext cx="160020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990720" y="4208400"/>
                <a:ext cx="156204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6248520" y="3809880"/>
            <a:ext cx="1904760" cy="2057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ing for Answer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All the Right Pl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553080" y="4191120"/>
                <a:ext cx="2133720" cy="14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362320" y="1600200"/>
                <a:ext cx="452124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998800" y="4191120"/>
                <a:ext cx="139392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914400" y="17524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320040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A+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724280" y="4240080"/>
                <a:ext cx="160020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012680" y="4208400"/>
                <a:ext cx="151776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4419720" y="3886200"/>
            <a:ext cx="1904760" cy="2057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ing for Answer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All the Right Pl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nequality is graphed bel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x +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B.  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2x + 2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 y &gt; -2x +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D.  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x + 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134040" y="1905120"/>
            <a:ext cx="3009960" cy="2952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76720" y="5334120"/>
            <a:ext cx="3047760" cy="6094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ing for Answer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All the Right Pl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nequality is graphed bel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x -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B.  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3x - 4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 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x -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D.  y &lt; 3x - 4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334120"/>
            <a:ext cx="3048120" cy="6094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34040" y="1905120"/>
            <a:ext cx="30099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ing for Answer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All the Right Pl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et of numbers is fini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real numbers greater than 6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rational numbers between 1 and 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whole numbers with tens digits at zero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odd numbers between 2 and 9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3962520"/>
            <a:ext cx="7391160" cy="6094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n is selecting an outfit from among 6 pairs of pants, 4 shirts, and 5 pairs of shoes.  How many different outfits consisting of 1 pair of pants, 1 shirt, and 1 pair of shoes are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 15       B.  120           C.  44         D. 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4952880"/>
            <a:ext cx="2438640" cy="12193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 wants to make a sandwich.  He has 4 types of meat, 3 types of cheese, and 2 types of sandwich spreads.  If Lee chooses 1 meet, 1 cheese, and 1 sandwich spread, how many different combinations are possible for his sandwi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 9       B.  12           C.  24          D.  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67080" y="4876920"/>
            <a:ext cx="2438640" cy="12189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ollowing is an example of independent ev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ling two number cub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ng the order of people standing in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ng 2 pieces of candy, one piece at a time, from a bag containing four different flav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ing names out of a hat without replacement.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2590920"/>
            <a:ext cx="5333760" cy="4572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tha took a cab from her home to the Promenade Mall.  She left at 7:00 p.m. and arrived at 7:25 p.m.  The cab company charges a flat fee of $5 plus $0.75 per mile.  Which equation represents C, the total cost of her ride, in terms of m, the length of the trip in miles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= 5 + 75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= 5m + 0.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= 5 + 0.75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= (5 + 0.75)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876920"/>
            <a:ext cx="3200400" cy="4572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tern is described below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term is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cond term is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erm after the second is found by adding 5 to the immediately preceding te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ixth term in this patte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1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 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5105520"/>
            <a:ext cx="2133720" cy="914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has $40.00.  A gallon of milk costs $3.89, including tax.  What is the greatest number of galloons of milk he can bu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. 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.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2971800"/>
            <a:ext cx="1905120" cy="914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equation represent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triple the sum of three x and four m equals 15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(3x) + 4m =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(3x + 4m) =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(3x + 4)m =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3x + 4m =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3124080"/>
            <a:ext cx="4267080" cy="7621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has 3 different flags to fly on his flagpole:  red®, yellow (Y) and blue (B).  If all 3 flags are to be flown together, what is the outcome set of how they can be displa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R, Y, B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RY, RB, YB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RYB, BRY, YBR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RYB, RBY, BRY, BYR, YRB, YBR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320" y="5410080"/>
            <a:ext cx="8229600" cy="6858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2T17:20:13Z</dcterms:created>
  <dc:creator>cdolezal</dc:creator>
  <dc:description/>
  <dc:language>en-US</dc:language>
  <cp:lastModifiedBy>cdolezal</cp:lastModifiedBy>
  <dcterms:modified xsi:type="dcterms:W3CDTF">2008-03-22T18:05:42Z</dcterms:modified>
  <cp:revision>3</cp:revision>
  <dc:subject/>
  <dc:title>Test Taking Strategies</dc:title>
</cp:coreProperties>
</file>