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953-D1EA-4827-9D7F-3DF55E71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17A-201F-42C2-9833-760E6646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C5A-ED0E-4904-883F-13E1C1B6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E27-A34B-43A8-991C-717073CC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875-57CD-4507-957D-AB5106A4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D8B-36B1-47EF-8A9F-DD0F4223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48E-7339-434C-B7F4-E5E3CF0D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BE0-745B-41D5-8E34-7E50BF6A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D98-9D63-4C28-89C7-BFEB4C96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27E-944A-41E0-AEA6-63BD992E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810-F826-40AC-9283-ABADA9CB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23F-5B57-42A3-858B-EC2B755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DB77-B78A-41A5-830A-02BF14C60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ak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equations represents the line that passes through the points           (4, 5) and (2, -3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y 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½ 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x –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– y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800600"/>
            <a:ext cx="32763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x – 6) = 5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         B. 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266688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3) (x + 2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,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2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20040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1/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03848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8280" y="2286000"/>
                <a:ext cx="26672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530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954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242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90720" y="4208400"/>
                <a:ext cx="156204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248520" y="380988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553080" y="4191120"/>
                <a:ext cx="213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98800" y="4191120"/>
                <a:ext cx="13939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+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24280" y="4240080"/>
                <a:ext cx="1600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12680" y="4208400"/>
                <a:ext cx="15177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419720" y="388620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2x + 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&gt; -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5334120"/>
            <a:ext cx="30477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&lt; 3x -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304812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et of numbers is fin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eal numbers greater than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ational numbers between 1 and 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whole numbers with tens digits at zero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odd numbers between 2 and 9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962520"/>
            <a:ext cx="73911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is selecting an outfit from among 6 pairs of pants, 4 shirts, and 5 pairs of shoes.  How many different outfits consisting of 1 pair of pants, 1 shirt, and 1 pair of shoes ar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15       B.  120           C.  44         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52880"/>
            <a:ext cx="243864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wants to make a sandwich.  He has 4 types of meat, 3 types of cheese, and 2 types of sandwich spreads.  If Lee chooses 1 meet, 1 cheese, and 1 sandwich spread, how many different combinations are possible for his sandw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9       B.  12           C.  24          D. 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876920"/>
            <a:ext cx="243864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an example of independe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ing two number c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the order of people standing i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2 pieces of candy, one piece at a time, from a bag containing four different fla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names out of a hat without replacement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590920"/>
            <a:ext cx="533376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took a cab from her home to the Promenade Mall.  She left at 7:00 p.m. and arrived at 7:25 p.m.  The cab company charges a flat fee of $5 plus $0.75 per mile.  Which equation represents C, the total cost of her ride, in terms of m, the length of the trip in mil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75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m +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0.7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(5 + 0.75)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320040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 is described below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erm is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erm is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rm after the second is found by adding 5 to the immediately preceding t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ixth term in this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05520"/>
            <a:ext cx="21337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has $40.00.  A gallon of milk costs $3.89, including tax.  What is the greatest number of galloons of milk he can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.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.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97180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quation repres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triple the sum of three x and four m equals 15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)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m)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)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x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124080"/>
            <a:ext cx="4267080" cy="7621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3 different flags to fly on his flagpole:  red®, yellow (Y) and blue (B).  If all 3 flags are to be flown together, what is the outcome set of how they can be displa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, Y,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, RB, Y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BRY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RBY, BRY, BYR, YRB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5410080"/>
            <a:ext cx="8229600" cy="685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7:20:13Z</dcterms:created>
  <dc:creator>cdolezal</dc:creator>
  <dc:description/>
  <dc:language>en-US</dc:language>
  <cp:lastModifiedBy>cdolezal</cp:lastModifiedBy>
  <dcterms:modified xsi:type="dcterms:W3CDTF">2008-03-22T18:05:42Z</dcterms:modified>
  <cp:revision>3</cp:revision>
  <dc:subject/>
  <dc:title>Test Taking Strategies</dc:title>
</cp:coreProperties>
</file>