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F15-A58B-493A-A25E-DAFAAB5E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222-CBBF-43E7-9C65-72018FD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8E3-9596-4F7E-93B5-7AE40E97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BF7-BF12-4F6F-AAAF-A753A8AB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F28-E1EE-4F1D-91BC-752DBF54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2E9-5A28-4B6F-A4FF-C6A215E4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30E-B9BA-4083-A835-41292813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B94-7A89-4ECD-B2E6-6620F0C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F0F-E903-4A1C-8321-C88CE35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88B-B518-49A8-88B2-9A07B28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93B-7957-4EFB-BC01-70A6F8F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F80-E00B-4BD8-ACAF-B1A929C7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29AC-DA2C-4F69-8975-F60A06CC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ak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quations represents the line that passes through the points           (4, 5) and (2, -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½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y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32763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x – 6) =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   B.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66688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3) (x + 2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,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20040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3848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2286000"/>
                <a:ext cx="2667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530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242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4208400"/>
                <a:ext cx="15620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8520" y="380988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4191120"/>
                <a:ext cx="213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98800" y="4191120"/>
                <a:ext cx="13939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24280" y="4240080"/>
                <a:ext cx="1600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2680" y="4208400"/>
                <a:ext cx="15177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19720" y="388620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x + 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&gt; -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5334120"/>
            <a:ext cx="30477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&lt; 3x -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04812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t of numbers is fin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eal numbers greater than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ational numbers between 1 and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hole numbers with tens digits at zero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odd numbers between 2 and 9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73911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is selecting an outfit from among 6 pairs of pants, 4 shirts, and 5 pairs of shoes.  How many different outfits consisting of 1 pair of pants, 1 shirt, and 1 pair of shoes ar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15       B.  120           C.  44         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243864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s to make a sandwich.  He has 4 types of meat, 3 types of cheese, and 2 types of sandwich spreads.  If Lee chooses 1 meet, 1 cheese, and 1 sandwich spread, how many different combinations are possible for his sandw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9       B.  12           C.  24          D.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876920"/>
            <a:ext cx="243864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ample of independe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two number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order of people standing i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2 pieces of candy, one piece at a time, from a bag containing four differen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names out of a hat without replacement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533376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took a cab from her home to the Promenade Mall.  She left at 7:00 p.m. and arrived at 7:25 p.m.  The cab company charges a flat fee of $5 plus $0.75 per mile.  Which equation represents C, the total cost of her ride, in terms of m, the length of the trip in mil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7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m +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(5 + 0.75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3200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is described below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is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rm after the second is found by adding 5 to the immediately preceding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xth term in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05520"/>
            <a:ext cx="21337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$40.00.  A gallon of milk costs $3.89, including tax.  What is the greatest number of galloons of milk he can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.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7180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quation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triple the sum of three x and four m equals 1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)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m)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)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x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426708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3 different flags to fly on his flagpole:  red®, yellow (Y) and blue (B).  If all 3 flags are to be flown together, what is the outcome set of how they can be displa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, Y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, RB, Y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BRY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RBY, BRY, BYR, YRB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410080"/>
            <a:ext cx="82296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7:20:13Z</dcterms:created>
  <dc:creator>cdolezal</dc:creator>
  <dc:description/>
  <dc:language>en-US</dc:language>
  <cp:lastModifiedBy>cdolezal</cp:lastModifiedBy>
  <dcterms:modified xsi:type="dcterms:W3CDTF">2008-03-22T18:05:42Z</dcterms:modified>
  <cp:revision>3</cp:revision>
  <dc:subject/>
  <dc:title>Test Taking Strategies</dc:title>
</cp:coreProperties>
</file>