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CD0-C713-41D6-A077-E2DEA99A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9D6-5BA0-44F3-A6C8-6192DAA3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068-FA89-4613-BD09-F9E1D796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928-1DBB-4FB6-8B81-928BBBF3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FD6C-FED8-4311-A269-65B4020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4B0-5B48-46CE-AA5F-094A3596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3531-103F-4AAA-969C-BDA02F1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FE7-6D9B-472B-AF9F-3F58C85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F91E-2E81-418D-B282-7804252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11AD-6EB7-4F70-8A0E-17889458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D90-D2AC-48CE-A584-05C487C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7FA-CE5A-42CA-B75B-67229904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1DD7-7918-4A77-94D8-195AE63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E23-BD93-4941-874B-D785FFB4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CFEE-B358-4EEB-9949-D8B62B8C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5CE-5C02-4794-8976-E707FA0C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6471-098E-40F9-8A81-5CBEC8FB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F5D-D14F-4143-986B-04035092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C97-FEAF-4B2B-84D1-A7A78503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835-C86E-4666-8FC3-1CE9032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DAB-EDFD-4446-BB8A-6C505EA3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FB3-9FC8-4696-8C1F-855E2427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4BC-8882-48FA-8368-F6E5FAE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2E9-CCFC-4D23-95B7-19B8523E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6AF-1F7E-438F-9FA4-A70540E9FA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E52-1855-4004-B77D-09847E4AA6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hina will soon becom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-speaking country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ngle job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U.S.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 and shipped i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 still would hav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labor surplu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is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914400"/>
            <a:ext cx="67816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60 babies will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 born in the U.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244 babies will be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 born in Chi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51 babies will b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born in Ind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Department of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bor estimate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’s learner will ha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o 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age 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U.S. 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4 workers to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working for a compan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whom they have been employ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1 yea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873080"/>
            <a:ext cx="8381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1 out of 2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working for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any for whom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work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5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ecretary of Educ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top 10 job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in dem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10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d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ist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4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paring student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obs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n’t yet exi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chnologi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at haven’t ye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en inven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e do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 know ar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ye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9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0th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oadband Interne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enetr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Luxembourg ju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ssed us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intendo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vested mo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$140 million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search and development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federal government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 a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uc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n research and innovation in educ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f every 8 coupl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rried in the U.S. la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year me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as of September 2006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Space were a country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th-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(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Japan and Mexico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verage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ge is visi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imes a da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ne in a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illion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x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ssag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nt 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ived every 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s the popul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as during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akespeare’s tim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,00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w book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ublished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ily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week’s worth of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 person was like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ome across in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th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300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peopl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unique new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generat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echnical information 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 every 2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students starting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ur-year technical 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llege degree, th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ans tha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ir first year of stud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predicted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oubl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72 hou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0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-generatio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ber optic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s recently been tested b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oth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its per second dow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, 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imultaneous phone calls, every secon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p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b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very 6 months and 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pected to do so f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1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610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. They’re just improving the switches on the ends, which means the marginal cost of these improvements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ly 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-pap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be cheap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47 million laptop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re shipped worldwid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st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 projec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expecting to ship 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50 to 100 million laptop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3 a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per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built that excee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 capabilit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when 1st-grade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just 23 years ol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beginning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first) career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only will take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,000 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 the capabiliti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farther 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bout 15 yea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hard to mak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514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49 a $1,000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uter will exce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apabilities of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ll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ea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opulation in Chin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th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est IQ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Shift 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happen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you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know . . 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greater tha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tal populat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North Americ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Karl Fisch, Scott McLeod</dc:creator>
  <dc:description/>
  <dc:language>en-US</dc:language>
  <cp:lastModifiedBy>cdolezal</cp:lastModifiedBy>
  <dcterms:modified xsi:type="dcterms:W3CDTF">2008-04-08T18:29:36Z</dcterms:modified>
  <cp:revision>115</cp:revision>
  <dc:subject/>
  <dc:title>Did You Know?</dc:title>
</cp:coreProperties>
</file>