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DC0-D1C3-48C8-9137-66EC1662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C67-F91C-447F-BC20-18D8CEA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309-7DC3-4905-9D41-44A57039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C09-4A97-45E8-AC1E-46246D7A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8A76-3DCA-48A8-83F3-67261625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1FDD-FBAF-47F5-AAB6-17646DAC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1D11-15DE-451F-B5B0-5DC1F7C9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44D5-FFFA-4EF6-AF2C-2F80925D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1AE5-F324-4C9E-B96C-1575298F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B9FD-6746-46BE-9944-97093D8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7E5C-D739-4299-BF25-52F2B7D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6AF-CDC7-4DFD-B675-861D351C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5C65-5E56-4D3D-81A1-99D502F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C26F-23AD-4892-A7EE-A34E5977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2D25-44E4-4A08-8405-C819015E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6231-FADF-4DEC-8965-0ADE7297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7FDA-3084-4D91-A298-1EA85956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F2B-9256-40C5-906B-AF5760C3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FE5-4193-4B8C-939D-DF5BF8ED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BB0-57CC-4A77-8514-367BB51E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A86-E382-4D21-AFCA-C2E682C6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0E7-91C7-4030-B917-CBB7FFFA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7D7-C525-4184-AFDF-B652C93F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9EB-7F73-4889-AF4D-8600A0BB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9BCA-7E17-4073-8674-DB2E751A7B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FA4C-67B4-431D-AAC5-14AC5231FE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anslation for teachers: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more honors ki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we have kid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hina will soon becom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n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nglish-speaking country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you took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ingle job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U.S.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 and shipped i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hina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t still would hav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labor surplu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uring the course of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is presentation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7400" y="914400"/>
            <a:ext cx="67816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60 babies will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 born in the U.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244 babies will be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 born in Chi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51 babies will b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born in Ind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Department of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bor estimate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’s learner will ha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o 14 job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by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age 38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ccording to the U.S. Department of Labor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ut of 4 workers to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working for a compan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whom they have been employ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1 yea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873080"/>
            <a:ext cx="8381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1 out of 2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working for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any for whom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work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5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ccording to form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ecretary of Educ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ichard Riley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top 10 job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in dem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10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d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ist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4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 are current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paring student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jobs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n’t yet exi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using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chnologie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at haven’t ye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een inven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order to sol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we do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n know ar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ye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Name thi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country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6094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Richest in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argest milit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enter of world business and fi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trongest education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World center of innovation and inv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urrency the world standard of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Highest standard of li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nglan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Sometimes size 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doe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matter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9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0th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roadband Interne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enetr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Luxembourg ju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ssed us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intendo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vested mo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$140 million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search and development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2 alon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federal government spen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half a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uch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on research and innovation in educati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f every 8 coupl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rried in the U.S. la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year me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nlin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6 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registered users of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as of September 2006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MySpace were a country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would be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th-large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(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Japan and Mexico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verage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ge is visi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imes a da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f you’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ne in a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illion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China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e are living in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xponential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time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.7 b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arches performed 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Google each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whom were thes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questions address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.G.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before Google)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f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x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ssag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nt 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ceived every 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s the popul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plan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abou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40,000 wor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nglish languag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bou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ny as during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akespeare’s tim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,00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w book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ublished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aily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week’s worth of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ew York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ntains more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 person was like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ome across in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fetim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18th centur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300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peopl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.5 exabyt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(1.5 x 10</a:t>
            </a:r>
            <a:r>
              <a:rPr b="1" lang="en-US" sz="4400" spc="-1" strike="noStrike" baseline="30000">
                <a:solidFill>
                  <a:srgbClr val="b2b2b2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)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unique new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generat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wide this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estimated to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viou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,000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mount of new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echnical information 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ubling every 2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students starting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ur-year technical 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llege degree, th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eans that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lf of what they lear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ir first year of stud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utda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by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 year of stud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predicted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oubl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72 hou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0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-generatio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ber optic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s recently been tested b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oth NEC and Alcatel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 pushe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r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its per second dow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ne strand of fib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1,900 CDs, 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5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imultaneous phone calls, every secon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’s currentl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pling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b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very 6 months and 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pected to do so f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t least the next 20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1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people 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873080"/>
            <a:ext cx="86104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fiber is already there. They’re just improving the switches on the ends, which means the marginal cost of these improvements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ffectively $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-pap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will be cheap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real pap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47 million laptop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re shipped worldwid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st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00 laptop projec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expecting to ship 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50 to 100 million laptop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year to children in underdeveloped countrie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3 a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per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built that excee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 capabilit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23, when 1st-grade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just 23 years ol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beginning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first) careers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only will take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,000 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 the capabiliti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while technic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farther 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bout 15 yea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hard to mak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2514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49 a $1,000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uter will exce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apabilities of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uman rac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hat does it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ll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ean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25% of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opulation in Chin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th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ghest IQ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Shift </a:t>
            </a:r>
            <a:br>
              <a:rPr sz="5400"/>
            </a:b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happens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Now </a:t>
            </a: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you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know . . 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greater tha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tal populat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North America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it’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op 28%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3:49:02Z</dcterms:created>
  <dc:creator>Karl Fisch, Scott McLeod</dc:creator>
  <dc:description/>
  <dc:language>en-US</dc:language>
  <cp:lastModifiedBy>cdolezal</cp:lastModifiedBy>
  <dcterms:modified xsi:type="dcterms:W3CDTF">2008-04-08T18:29:36Z</dcterms:modified>
  <cp:revision>115</cp:revision>
  <dc:subject/>
  <dc:title>Did You Know?</dc:title>
</cp:coreProperties>
</file>