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956-F297-4892-803C-3FBDAC52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B28-1D7A-4ED5-8666-2624D62E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0C5-7AB5-4AAA-B8C4-59948D13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F62-7DFD-4A5C-B554-E735548A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6E17-3253-41FC-8665-45709B78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4508-9B08-4949-BCCD-F997A860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3812-A7D3-49F5-B33C-6CBB6AD9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3BAC-1F44-4AF8-8992-C91CE404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CC24-0E7A-4C35-9972-4A56F3D9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AAFD-8743-4BE2-8EA3-811FB352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C130-3403-420F-9266-4A132368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DE2-0867-4415-8E63-825E825F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50D7-2E99-44AE-9639-7E05A73F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3319-0BC6-42EE-AEEE-5B6F62B6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E5DE-B857-4817-AC5F-3A98625B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68DA-A32B-4DDD-B3E5-8764CEE9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928A-4633-47B3-B341-D90F89D0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13E-9B2C-44D6-90C5-8914891D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81F-C3CC-41FB-A8E0-45C8CBC0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71A-D563-44AE-ACA6-F272260B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14E-0A6F-4F5B-9F25-7E136367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B75-716F-4CBE-8FC9-14A07F09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E6B-38CF-4F27-ACA2-7C9BECB6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654-5E6F-46B7-92AE-00862B3C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A6DE-4253-4EF9-AEC3-F06349155D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257B-B652-4165-95F0-1598FF2F3A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anslation for teachers: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more honors kid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we have kid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hina will soon becom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n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nglish-speaking country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orl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you took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ingle job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U.S.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day and shipped i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China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t still would hav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labor surplu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uring the course of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is presentation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7400" y="914400"/>
            <a:ext cx="67816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60 babies will b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 born in the U.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244 babies will be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 born in Chi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51 babies will b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 born in Ind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Department of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abor estimates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day’s learner will hav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o 14 job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by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age 38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ccording to the U.S. Department of Labor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182844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ut of 4 workers toda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working for a compan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whom they have been employ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1 yea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873080"/>
            <a:ext cx="8381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1 out of 2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re working for 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mpany for whom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work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5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ccording to forme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ecretary of Educ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ichard Riley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top 10 jobs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in deman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10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dn’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ist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4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 are currentl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paring student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jobs tha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n’t yet exi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using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chnologie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at haven’t ye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een inven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order to solv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we don’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n know ar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ye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Name this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country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60948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Richest in the 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Largest milit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enter of world business and fin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Strongest education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World center of innovation and inven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urrency the world standard of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Highest standard of li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ngland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Sometimes size </a:t>
            </a: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doe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matter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90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0th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 world i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roadband Interne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enetr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Luxembourg jus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ssed us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intendo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vested mor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$140 million i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search and development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2 alon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federal government spen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half a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uch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on research and innovation in educatio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f every 8 couple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rried in the U.S. las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year me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nlin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6 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registered users of MySpac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as of September 2006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MySpace were a country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would be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th-large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 world (betwee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Japan and Mexico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verage MySpac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ge is visi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imes a da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f you’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one in a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million 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China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e are living in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xponential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times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.7 b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arches performed 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Google each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whom were thes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questions address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.G.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before Google)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f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x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ssag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nt an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ceived every da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ceeds the popul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plane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abou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40,000 word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nglish languag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bou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 tim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ny as during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hakespeare’s tim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,000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ew book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r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ublished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daily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estimated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 week’s worth of 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ew York Tim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ntains more inform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a person was likel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come across in a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ifetim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18th centur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re a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,300 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peopl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estimated tha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.5 exabyt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(1.5 x 10</a:t>
            </a:r>
            <a:r>
              <a:rPr b="1" lang="en-US" sz="4400" spc="-1" strike="noStrike" baseline="30000">
                <a:solidFill>
                  <a:srgbClr val="b2b2b2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)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unique new inform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generate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orldwide this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estimated to b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viou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,000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mount of new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echnical information 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ubling every 2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students starting 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ur-year technical o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llege degree, thi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eans that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lf of what they lear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ir first year of stud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utda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by thei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 year of stud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predicted to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oubl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72 hou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10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-generatio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ber optic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s recently been tested b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oth NEC and Alcatel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 pushe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r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its per second dow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ne strand of fib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1,900 CDs, o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50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imultaneous phone calls, every secon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’s currently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pling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bou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very 6 months and i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pected to do so fo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t least the next 20 year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there a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,10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people 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873080"/>
            <a:ext cx="86104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fiber is already there. They’re just improving the switches on the ends, which means the marginal cost of these improvements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ffectively $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-pap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will be cheape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real pap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47 million laptop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re shipped worldwid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ast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00 laptop projec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expecting to ship betwee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50 to 100 million laptop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 year to children in underdeveloped countrie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13 a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percomput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built that exceed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omputation capabilit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human brai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23, when 1st-grader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just 23 years ol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beginning thei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first) careers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only will take a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,000 comput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o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ceed the capabilitie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human brai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while technical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farther ou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about 15 year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re hard to mak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2514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49 a $1,000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mputer will excee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omputational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apabilities of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uman rac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hat does it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ll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mean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25% of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opulation in Chin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th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ighest IQ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Shift </a:t>
            </a:r>
            <a:br>
              <a:rPr sz="5400"/>
            </a:b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happens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Now </a:t>
            </a: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you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know . . 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greater tha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otal populat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North America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it’s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top 28%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3:49:02Z</dcterms:created>
  <dc:creator>Karl Fisch, Scott McLeod</dc:creator>
  <dc:description/>
  <dc:language>en-US</dc:language>
  <cp:lastModifiedBy>cdolezal</cp:lastModifiedBy>
  <dcterms:modified xsi:type="dcterms:W3CDTF">2008-04-08T18:29:36Z</dcterms:modified>
  <cp:revision>115</cp:revision>
  <dc:subject/>
  <dc:title>Did You Know?</dc:title>
</cp:coreProperties>
</file>