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52C-A92E-4634-9944-2B8A77CF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3F8-A6AF-490F-9D3C-B8A2BDF5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71B-881C-4B37-901B-A601B57C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1E1-BA42-4275-92C2-1493893F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4EE-7E82-4CD7-BCA2-44C24822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3F5E-FBED-490B-8D2F-4ED2AC6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B913-896B-4625-8D64-3CEF4801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9592-F6ED-4830-A0A4-6375F0E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1889-DDB6-47E7-9B6A-5F99D461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73C-293D-4728-AED9-445F398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3737-3FF0-4640-8BE7-CE992D36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2A9-8ADF-4406-B7AE-63BFE38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1042-9C17-4991-9579-4E4C8BA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8E6F-3BE5-436C-8BDA-9C800CA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607-3FB4-429B-BD80-4F12706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D891-4414-4F33-8E8C-59A2F3B0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64F1-A596-4417-8C79-8BA483B5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BA5-70EF-41D9-906B-509BCAF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8BD-D278-4C0C-A1B0-48C0B1ED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ADC-B5AE-4497-A139-D4E99B7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672-399A-4143-92BE-B479A9BF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AA2-9B1A-4EC9-A7B5-0A87DC1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69B-CFAA-42B6-AC9C-4E4C9F2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724-C43D-486D-8E92-25ECBF7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5D6-ADCA-4FF1-97A7-83FDD21DC6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03D-3F0A-4D0C-94B2-25F735E8CD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hina will soon becom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-speaking country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ngle job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U.S.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 and shipped i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 still would hav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labor surplu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is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914400"/>
            <a:ext cx="67816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60 babies will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 born in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244 babies will be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 born in Chi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51 babies will b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born in Ind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Department of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bor estimate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’s learner will ha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o 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ge 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U.S. 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4 workers to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working for a compan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whom they have been employ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1 yea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873080"/>
            <a:ext cx="8381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1 out of 2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working for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any for whom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work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5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ecretary of Educ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top 10 job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in dem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10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d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ist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4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paring student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obs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n’t yet exi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chnologi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at haven’t ye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en inven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e do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 know ar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ye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9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0th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oadband Interne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enetr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Luxembourg ju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ssed us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intendo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vested mo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$140 million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search and development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federal government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 a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uc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n research and innovation in educ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f every 8 coupl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rried in the U.S. la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year me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as of September 2006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Space were a country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th-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(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Japan and Mexico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verage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ge is visi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imes a da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ne in a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illion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x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ssag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nt 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ived every 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s the popul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as during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akespeare’s tim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,00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w book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ublished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ily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week’s worth of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 person was like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ome across in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th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300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peopl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unique new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generat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echnical information 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 every 2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students starting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ur-year technical 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llege degree, th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ans tha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ir first year of stud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predicted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oubl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72 hou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0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-generatio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ber optic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s recently been tested b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oth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its per second dow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, 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imultaneous phone calls, every secon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p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b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very 6 months and 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pected to do so f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1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610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. They’re just improving the switches on the ends, which means the marginal cost of these improvements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ly 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-pap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be cheap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7 million laptop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re shipped worldwid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st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 projec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expecting to ship 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50 to 100 million laptop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3 a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per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built that excee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 capabilit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when 1st-grade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just 23 years ol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beginning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first) career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only will take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,000 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 the capabiliti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farther 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bout 15 yea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hard to mak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49 a $1,000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uter will exce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apabilities of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ll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ea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pulation in Chin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th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est IQ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Shift 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happen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you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know . . 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greater tha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tal populat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North Americ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Karl Fisch, Scott McLeod</dc:creator>
  <dc:description/>
  <dc:language>en-US</dc:language>
  <cp:lastModifiedBy>cdolezal</cp:lastModifiedBy>
  <dcterms:modified xsi:type="dcterms:W3CDTF">2008-04-08T18:29:36Z</dcterms:modified>
  <cp:revision>115</cp:revision>
  <dc:subject/>
  <dc:title>Did You Know?</dc:title>
</cp:coreProperties>
</file>