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2D34-8F3A-4222-8410-544C1ADD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394B-FB2C-4B89-9C9C-B0FD8EEF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9B51-7771-47DD-A524-48FE6A40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579A-010D-4502-B762-7DC1C4AA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EAFD-4406-45FD-A210-8BFF4A2B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2E00-AD8D-44C5-90D4-0137E311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97D6-A601-49E1-A5E9-81DC59D7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03CF-38AB-49F6-890A-5B423134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5F4E-9274-400D-9585-172A4E1B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D1CD-F332-4F69-958E-1B98B1CA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9E45-DF2D-41EC-AD25-B99BA706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F32D-68CA-4573-BBEB-A61BCEEF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9A89-295C-47F4-8B48-B1BEA3CF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554D-544A-4298-8BAB-59667DA1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E5C5-808A-46CD-82CE-26E353A8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FCDB-7F9F-4718-AC79-BBBA404E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99A4-549C-4E6F-ACCA-793651DF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73E-397E-4175-A310-47EEDCF1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355E-C32A-4FB6-A132-2C4A321C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D561-3C80-4C54-ACAF-E00712B7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05D2-61B7-4039-B081-F22CBA8F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31B3-EB97-42D6-963A-92208651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3DA7-9700-4D01-96CF-EE9C9C0E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73BE-F39C-4D53-B8D6-7418C0D2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894B-0292-4986-98C2-9B5F5DFAFB0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42F5-AB06-49CF-A90A-F381232CA44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ranslation for teachers: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y have more honors kid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n we have kid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hina will soon becom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number on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nglish-speaking country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th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orld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f you took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very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ingle job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the U.S.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oday and shipped i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o China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t still would have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a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labor surplus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uring the course of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this presentation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057400" y="914400"/>
            <a:ext cx="67816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60 babies will b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 born in the U.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244 babies will be 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  born in Chin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351 babies will b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  born in Indi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U.S. Department of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Labor estimates tha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oday’s learner will hav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0 to 14 job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by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age 38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According to the U.S. Department of Labor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1828440"/>
            <a:ext cx="8991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1 out of 4 workers toda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s working for a compan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for whom they have been employed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ss than 1 year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1873080"/>
            <a:ext cx="8381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ore than 1 out of 2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re working for a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ompany for whom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y have work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ss than 5 year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ccording to forme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Secretary of Educati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Richard Riley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top 10 jobs tha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ll be in demand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2010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dn’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ist 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2004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e are currentl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paring student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for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jobs tha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on’t yet exist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using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echnologie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at haven’t yet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been invented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order to solv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blems we don’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ven know ar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blems yet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Name this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country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60948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Richest in the wor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Largest milit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enter of world business and fin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Strongest education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World center of innovation and inven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urrency the world standard of val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Highest standard of liv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England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Sometimes size </a:t>
            </a: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does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 matter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n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1900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21337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U.S. is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20th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the world i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roadband Interne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enetrati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(Luxembourg jus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assed us)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intendo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vested mor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n $140 million i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research and development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2002 alone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U.S. federal government spent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ss than half a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uch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on research and innovation in education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1 of every 8 couple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arried in the U.S. las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year met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nline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re are over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06 mill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registered users of MySpac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(as of September 2006)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f MySpace were a country,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 would be 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1th-largest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the world (betwee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Japan and Mexico)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average MySpac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age is visit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30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times a day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f you’r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one in a </a:t>
            </a:r>
            <a:br>
              <a:rPr sz="4800"/>
            </a:b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million 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n China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We are living in </a:t>
            </a:r>
            <a:br>
              <a:rPr sz="4800"/>
            </a:b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exponential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 times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re are over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2.7 bill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searches performed 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Google each month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o whom were thes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questions addressed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B.G.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(before Google)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number of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ex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essage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sent and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received every da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xceeds the populati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f the planet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re are abou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540,000 word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th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nglish language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bout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5 time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a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any as during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Shakespeare’s time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ore than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3,000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ew book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ar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ublished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daily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 is estimated tha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 week’s worth of </a:t>
            </a:r>
            <a:br>
              <a:rPr sz="4400"/>
            </a:b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New York Time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ontains more informati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n a person was likel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o come across in a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ifetime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the 18th century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there ar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1,300 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people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just like you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 is estimated tha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.5 exabyte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(1.5 x 10</a:t>
            </a:r>
            <a:r>
              <a:rPr b="1" lang="en-US" sz="4400" spc="-1" strike="noStrike" baseline="30000">
                <a:solidFill>
                  <a:srgbClr val="b2b2b2"/>
                </a:solidFill>
                <a:latin typeface="Arial"/>
              </a:rPr>
              <a:t>18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)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f unique new informati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ll be generated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orldwide this yea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t’s estimated to b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ore than in th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vious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5,000 year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amount of new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echnical information i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oubling every 2 year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For students starting a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four-year technical o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ollege degree, thi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eans that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half of what they lear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their first year of stud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ll b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utdated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by thei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ird year of study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 is predicted to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doubl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very 72 hour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y 2010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ird-generation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ber optic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has recently been tested b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oth NEC and Alcatel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t pushes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0 trill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its per second dow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ne strand of fibe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t’s 1,900 CDs, or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50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ill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simultaneous phone calls, every second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’s currently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ripling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abou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very 6 months and i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xpected to do so fo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t least the next 20 year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n India, there ar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1,100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 people just like you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1873080"/>
            <a:ext cx="86104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fiber is already there. They’re just improving the switches on the ends, which means the marginal cost of these improvements is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ffectively $0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dictions are that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-paper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will be cheape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n real pape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47 million laptop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ere shipped worldwid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last yea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$100 laptop projec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s expecting to ship betwee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50 to 100 million laptop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 year to children in underdeveloped countrie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dictions are tha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y 2013 a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upercomputer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ll be built that exceed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computation capabilit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f the human brain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y 2023, when 1st-grader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ll be just 23 years old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nd beginning thei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(first) careers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 only will take a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$1,000 computer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to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xceed the capabilitie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f the human brain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nd while technical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dictions farther ou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n about 15 year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re hard to make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2514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dictions are tha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y 2049 a $1,000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omputer will exceed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computational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apabilities of th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human race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What does it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all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mean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25% of th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opulation in China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th 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highest IQ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Arial"/>
              </a:rPr>
              <a:t>Shift </a:t>
            </a:r>
            <a:br>
              <a:rPr sz="5400"/>
            </a:br>
            <a:r>
              <a:rPr b="1" lang="en-US" sz="5400" spc="-1" strike="noStrike">
                <a:solidFill>
                  <a:srgbClr val="3399ff"/>
                </a:solidFill>
                <a:latin typeface="Arial"/>
              </a:rPr>
              <a:t>happens.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2b2b2"/>
                </a:solidFill>
                <a:latin typeface="Arial"/>
              </a:rPr>
              <a:t>Now </a:t>
            </a:r>
            <a:r>
              <a:rPr b="1" lang="en-US" sz="5400" spc="-1" strike="noStrike">
                <a:solidFill>
                  <a:srgbClr val="3399ff"/>
                </a:solidFill>
                <a:latin typeface="Arial"/>
              </a:rPr>
              <a:t>you</a:t>
            </a: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b2b2b2"/>
                </a:solidFill>
                <a:latin typeface="Arial"/>
              </a:rPr>
              <a:t>know . . .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s greater tha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otal populat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f North America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n India, it’s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th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top 28%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03:49:02Z</dcterms:created>
  <dc:creator>Karl Fisch, Scott McLeod</dc:creator>
  <dc:description/>
  <dc:language>en-US</dc:language>
  <cp:lastModifiedBy>cdolezal</cp:lastModifiedBy>
  <dcterms:modified xsi:type="dcterms:W3CDTF">2008-04-08T18:29:36Z</dcterms:modified>
  <cp:revision>115</cp:revision>
  <dc:subject/>
  <dc:title>Did You Know?</dc:title>
</cp:coreProperties>
</file>