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AD4-C328-4E7D-8D7D-35C1DFA8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DCE-63A8-43F3-BC13-CC5DB6F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BDE-F7EA-44E3-8D3E-91FA2C69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E1C-6D42-4631-AF8C-2ADFF470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8D07-7CEE-4CCC-BA49-026CB977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25D2-302F-438E-BD06-950EE8EF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EEC1-12E9-4A67-BC92-CB3E5FC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4F75-0F0E-4AE3-BC64-9F89CD1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A60-A6CA-42FA-ABFC-192A3821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7095-488B-4B89-9A5F-D646798C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318-8452-4823-93E5-E0099CD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25D-43DB-4E95-8381-3E30F84F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F3AF-FF39-4FFC-B8F4-436FF31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50E-D442-46FC-A867-428ED97B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661C-07FB-46FB-BC57-32E63B5A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F6F6-0CB4-4EBA-B1BE-70D88ADD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44A0-9CA0-4E5D-8DF2-D827B5D3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910-CDE0-4156-8F4D-A63F0B0E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F1F-077B-4BA0-9130-569F5E7F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EF5-937F-493E-84B3-A271D4BD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4DB-CF1A-4066-BF30-6366340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798-E104-411A-8C52-BFFC2BD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25F-7DE7-4705-AAFD-F79712F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F81-E759-47C8-9AB0-25F708F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718-880A-4992-B682-4D1C4A850A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1A07-0715-4D91-B22E-8E6056FA4A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hina will soon becom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-speaking country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ngle job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U.S.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 and shipped i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 still would hav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labor surplu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is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914400"/>
            <a:ext cx="67816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60 babies will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 born in the U.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244 babies will be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 born in Chi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51 babies will b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born in Ind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Department of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bor estimate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day’s learner will ha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o 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age 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U.S. 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4 workers to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working for a compan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whom they have been employ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1 yea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873080"/>
            <a:ext cx="8381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1 out of 2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working for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any for whom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work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5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ecretary of Educ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top 10 jobs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in dem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10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d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ist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4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paring student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obs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n’t yet exi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using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chnologie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at haven’t ye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en inven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we don’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 know ar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blems ye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9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0th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oadband Interne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enetr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Luxembourg ju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ssed us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intendo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vested mo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$140 million i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search and development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U.S. federal government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 a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uc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n research and innovation in educ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f every 8 coupl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rried in the U.S. las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year me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as of September 2006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Space were a country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th-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 world (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Japan and Mexico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verage MySpac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ge is visi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imes a da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one in a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illion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x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ssag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nt an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ived every da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s the popul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as during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akespeare’s tim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3,00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w book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r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ublished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aily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week’s worth of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 person was likel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come across in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th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300 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peopl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estimated that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unique new informatio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generat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re than in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echnical information 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 every 2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r students starting 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our-year technical 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llege degree, th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ans tha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their first year of stud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is predicted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oubl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72 hou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0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-generatio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ber optic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s recently been tested b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oth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its per second dow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, o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0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imultaneous phone calls, every secon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p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b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very 6 months and i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pected to do so fo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1,10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6104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. They’re just improving the switches on the ends, which means the marginal cost of these improvements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ffectively 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-pap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be cheape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47 million laptop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re shipped worldwid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ast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 projec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expecting to ship betwee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50 to 100 million laptop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13 a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per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built that exceed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 capability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when 1st-grade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ll be just 23 years ol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beginning their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first) career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 only will take a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,000 computer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o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xceed the capabilitie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the human brai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farther ou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n about 15 years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re hard to mak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514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49 a $1,000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mputer will exceed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omputational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apabilities of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ll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ea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opulation in China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ith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est IQ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Shift 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happen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you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know . . 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s greater than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tal populat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f North Americ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Karl Fisch, Scott McLeod</dc:creator>
  <dc:description/>
  <dc:language>en-US</dc:language>
  <cp:lastModifiedBy>cdolezal</cp:lastModifiedBy>
  <dcterms:modified xsi:type="dcterms:W3CDTF">2008-04-08T18:29:36Z</dcterms:modified>
  <cp:revision>115</cp:revision>
  <dc:subject/>
  <dc:title>Did You Know?</dc:title>
</cp:coreProperties>
</file>