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ct" ContentType="image/x-pict"/>
  <Override PartName="/ppt/media/image55.pct" ContentType="image/x-pict"/>
  <Override PartName="/ppt/media/image54.pct" ContentType="image/x-pict"/>
  <Override PartName="/ppt/media/image53.pct" ContentType="image/x-pict"/>
  <Override PartName="/ppt/media/image52.pct" ContentType="image/x-pict"/>
  <Override PartName="/ppt/media/image51.pct" ContentType="image/x-pict"/>
  <Override PartName="/ppt/media/image50.pct" ContentType="image/x-pict"/>
  <Override PartName="/ppt/media/image46.pct" ContentType="image/x-pict"/>
  <Override PartName="/ppt/media/image45.pct" ContentType="image/x-pict"/>
  <Override PartName="/ppt/media/image43.pct" ContentType="image/x-pict"/>
  <Override PartName="/ppt/media/image42.pct" ContentType="image/x-pict"/>
  <Override PartName="/ppt/media/image41.pct" ContentType="image/x-pict"/>
  <Override PartName="/ppt/media/image40.pct" ContentType="image/x-pict"/>
  <Override PartName="/ppt/media/image31.pct" ContentType="image/x-pict"/>
  <Override PartName="/ppt/media/image30.pct" ContentType="image/x-pict"/>
  <Override PartName="/ppt/media/image39.pct" ContentType="image/x-pict"/>
  <Override PartName="/ppt/media/image9.pct" ContentType="image/x-pict"/>
  <Override PartName="/ppt/media/image86.pct" ContentType="image/x-pict"/>
  <Override PartName="/ppt/media/image13.pct" ContentType="image/x-pict"/>
  <Override PartName="/ppt/media/image38.pct" ContentType="image/x-pict"/>
  <Override PartName="/ppt/media/image8.pct" ContentType="image/x-pict"/>
  <Override PartName="/ppt/media/image85.pct" ContentType="image/x-pict"/>
  <Override PartName="/ppt/media/image49.pct" ContentType="image/x-pict"/>
  <Override PartName="/ppt/media/image12.pct" ContentType="image/x-pict"/>
  <Override PartName="/ppt/media/image37.pct" ContentType="image/x-pict"/>
  <Override PartName="/ppt/media/image7.pct" ContentType="image/x-pict"/>
  <Override PartName="/ppt/media/image19.pct" ContentType="image/x-pict"/>
  <Override PartName="/ppt/media/image84.pct" ContentType="image/x-pict"/>
  <Override PartName="/ppt/media/image48.pct" ContentType="image/x-pict"/>
  <Override PartName="/ppt/media/image11.pct" ContentType="image/x-pict"/>
  <Override PartName="/ppt/media/image36.pct" ContentType="image/x-pict"/>
  <Override PartName="/ppt/media/image6.pct" ContentType="image/x-pict"/>
  <Override PartName="/ppt/media/image18.pct" ContentType="image/x-pict"/>
  <Override PartName="/ppt/media/image83.pct" ContentType="image/x-pict"/>
  <Override PartName="/ppt/media/image21.pct" ContentType="image/x-pict"/>
  <Override PartName="/ppt/media/image58.pct" ContentType="image/x-pict"/>
  <Override PartName="/ppt/media/image22.pct" ContentType="image/x-pict"/>
  <Override PartName="/ppt/media/image59.pct" ContentType="image/x-pict"/>
  <Override PartName="/ppt/media/image23.pct" ContentType="image/x-pict"/>
  <Override PartName="/ppt/media/image60.pct" ContentType="image/x-pict"/>
  <Override PartName="/ppt/media/image24.pct" ContentType="image/x-pict"/>
  <Override PartName="/ppt/media/image61.pct" ContentType="image/x-pict"/>
  <Override PartName="/ppt/media/image62.pct" ContentType="image/x-pict"/>
  <Override PartName="/ppt/media/image63.pct" ContentType="image/x-pict"/>
  <Override PartName="/ppt/media/image64.pct" ContentType="image/x-pict"/>
  <Override PartName="/ppt/media/image65.pct" ContentType="image/x-pict"/>
  <Override PartName="/ppt/media/image66.pct" ContentType="image/x-pict"/>
  <Override PartName="/ppt/media/image67.pct" ContentType="image/x-pict"/>
  <Override PartName="/ppt/media/image89.pct" ContentType="image/x-pict"/>
  <Override PartName="/ppt/media/image77.pct" ContentType="image/x-pict"/>
  <Override PartName="/ppt/media/image88.pct" ContentType="image/x-pict"/>
  <Override PartName="/ppt/media/image76.pct" ContentType="image/x-pict"/>
  <Override PartName="/ppt/media/image87.pct" ContentType="image/x-pict"/>
  <Override PartName="/ppt/media/image75.pct" ContentType="image/x-pict"/>
  <Override PartName="/ppt/media/image79.pct" ContentType="image/x-pict"/>
  <Override PartName="/ppt/media/image78.pct" ContentType="image/x-pict"/>
  <Override PartName="/ppt/media/image74.pct" ContentType="image/x-pict"/>
  <Override PartName="/ppt/media/image73.pct" ContentType="image/x-pict"/>
  <Override PartName="/ppt/media/image72.pct" ContentType="image/x-pict"/>
  <Override PartName="/ppt/media/image69.pct" ContentType="image/x-pict"/>
  <Override PartName="/ppt/media/image32.pct" ContentType="image/x-pict"/>
  <Override PartName="/ppt/media/image71.pct" ContentType="image/x-pict"/>
  <Override PartName="/ppt/media/image29.pct" ContentType="image/x-pict"/>
  <Override PartName="/ppt/media/image68.pct" ContentType="image/x-pict"/>
  <Override PartName="/ppt/media/image70.pct" ContentType="image/x-pict"/>
  <Override PartName="/ppt/media/image20.pct" ContentType="image/x-pict"/>
  <Override PartName="/ppt/media/image57.pct" ContentType="image/x-pict"/>
  <Override PartName="/ppt/media/image44.pct" ContentType="image/x-pict"/>
  <Override PartName="/ppt/media/image90.pct" ContentType="image/x-pict"/>
  <Override PartName="/ppt/media/image25.pct" ContentType="image/x-pict"/>
  <Override PartName="/ppt/media/image2.pct" ContentType="image/x-pict"/>
  <Override PartName="/ppt/media/image14.pct" ContentType="image/x-pict"/>
  <Override PartName="/ppt/media/image28.pct" ContentType="image/x-pict"/>
  <Override PartName="/ppt/media/image93.pct" ContentType="image/x-pict"/>
  <Override PartName="/ppt/media/image91.pct" ContentType="image/x-pict"/>
  <Override PartName="/ppt/media/image26.pct" ContentType="image/x-pict"/>
  <Override PartName="/ppt/media/image80.pct" ContentType="image/x-pict"/>
  <Override PartName="/ppt/media/image15.pct" ContentType="image/x-pict"/>
  <Override PartName="/ppt/media/image3.pct" ContentType="image/x-pict"/>
  <Override PartName="/ppt/media/image33.pct" ContentType="image/x-pict"/>
  <Override PartName="/ppt/media/image92.pct" ContentType="image/x-pict"/>
  <Override PartName="/ppt/media/image27.pct" ContentType="image/x-pict"/>
  <Override PartName="/ppt/media/image81.pct" ContentType="image/x-pict"/>
  <Override PartName="/ppt/media/image16.pct" ContentType="image/x-pict"/>
  <Override PartName="/ppt/media/image4.pct" ContentType="image/x-pict"/>
  <Override PartName="/ppt/media/image34.pct" ContentType="image/x-pict"/>
  <Override PartName="/ppt/media/image82.pct" ContentType="image/x-pict"/>
  <Override PartName="/ppt/media/image17.pct" ContentType="image/x-pict"/>
  <Override PartName="/ppt/media/image5.pct" ContentType="image/x-pict"/>
  <Override PartName="/ppt/media/image1.jpeg" ContentType="image/jpeg"/>
  <Override PartName="/ppt/media/image35.pct" ContentType="image/x-pict"/>
  <Override PartName="/ppt/media/image10.pct" ContentType="image/x-pict"/>
  <Override PartName="/ppt/media/image47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BA6B-37D0-4B4E-BCEF-534B85F6F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2FDA-0EF9-4427-B64D-D6802E26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7B9F-F011-4EFC-8BDF-289ADB88D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6225-48B5-4D96-BB69-0F22E1D77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B5D9-05EC-4A7D-8862-4EF92A42E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CA9B-4687-4040-AD68-51AAEDCF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9E07-8BB0-4226-8CF5-BB04F055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D169-A9B0-4809-BE3F-B0F35CDE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C246-7AB9-4E0B-9099-0F7155C0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F242-8D2D-4071-ACEB-A871BBE9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6409-4147-4A1B-AA5C-1087E343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34BD-1A7B-4FB3-97AA-0662CB5C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BA1A-1404-4B4B-ADC3-2F0BC9EB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B648-E1F7-4D60-9875-1A9364D2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529A-9E8A-45A5-BBC7-ACE10CCE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91C4-82BD-47B5-A0AD-0E68CABA4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7540-EF67-470D-B9C8-4F00DAEB8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4C46-B31F-4C19-94B8-EACED198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9E90-A1FF-4EDA-B27B-D59E7140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FECD-96C6-4121-BECF-737F85EA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2EFC-6C52-4FD2-9064-98BDE2BA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2551-90DE-4CBA-840D-941AF4A9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F174-BE95-4665-93FD-00E91401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BFFA-03F0-417E-B9CB-D1AACC8D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C985-2825-4D77-B271-CCD6DFE98D55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4282a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4FCB-3A19-443C-9F54-DE087D16DDC6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4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5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6.pct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7.pct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8.pct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29.pct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30.pct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31.pct"/><Relationship Id="rId2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34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35.pct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39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0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1.pct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4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44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45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6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7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8.pct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9.pct"/><Relationship Id="rId1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51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52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53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4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5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6.pct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7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58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59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60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1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2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63.pct"/><Relationship Id="rId1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4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65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66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67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8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9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0.pct"/><Relationship Id="rId1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1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72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73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74.pct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5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76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77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78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9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0.pct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1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82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83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84.pct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5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86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83.pct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7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88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89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90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1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2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93.pct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pct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4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5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6.pct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7.pct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ct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4c2b"/>
                </a:solidFill>
                <a:latin typeface="Comic Sans MS"/>
              </a:rPr>
              <a:t>Rational Exponents</a:t>
            </a:r>
            <a:endParaRPr b="0" lang="en-US" sz="9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Comic Sans MS"/>
              </a:rPr>
              <a:t>In other words, exponents that are fractions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457200" y="2895480"/>
          <a:ext cx="2192400" cy="157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895480"/>
                    <a:ext cx="219240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0" y="0"/>
            <a:ext cx="5181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743200" y="3193920"/>
          <a:ext cx="2514600" cy="153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3200" y="3193920"/>
                    <a:ext cx="2514600" cy="15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90680" y="1295280"/>
          <a:ext cx="2124000" cy="1576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90680" y="1295280"/>
                    <a:ext cx="212400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181480" y="3429000"/>
          <a:ext cx="1694160" cy="1257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181480" y="3429000"/>
                    <a:ext cx="169416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781680" y="3733920"/>
          <a:ext cx="1311480" cy="601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781680" y="3733920"/>
                    <a:ext cx="131148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590920" y="1600200"/>
          <a:ext cx="2514600" cy="1530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590920" y="1600200"/>
                    <a:ext cx="2514600" cy="15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952880" y="1828800"/>
          <a:ext cx="1694160" cy="1257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952880" y="1828800"/>
                    <a:ext cx="169416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6515280" y="2141640"/>
          <a:ext cx="1693800" cy="6015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515280" y="2141640"/>
                    <a:ext cx="169380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7086600" y="2057400"/>
            <a:ext cx="1143000" cy="7621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315200" y="3657600"/>
            <a:ext cx="838080" cy="7621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90680" y="4495680"/>
          <a:ext cx="2124000" cy="15764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90680" y="4495680"/>
                    <a:ext cx="212400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2770200" y="4794120"/>
          <a:ext cx="2460600" cy="1530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770200" y="4794120"/>
                    <a:ext cx="2460600" cy="15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181480" y="5029200"/>
          <a:ext cx="1694160" cy="12574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181480" y="5029200"/>
                    <a:ext cx="169416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6754680" y="5334120"/>
          <a:ext cx="1365480" cy="6015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6754680" y="5334120"/>
                    <a:ext cx="136548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7315200" y="5257800"/>
            <a:ext cx="838080" cy="7621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Simplifying Expressions</a:t>
            </a: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No negative exponent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No fractional exponents in the denominator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No complex fractions (fraction within a fraction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The index of any remaining radical is the least possible number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809880" y="1515960"/>
          <a:ext cx="3922920" cy="145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1515960"/>
                    <a:ext cx="392292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62000" y="1395360"/>
          <a:ext cx="3495600" cy="1576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2000" y="1395360"/>
                    <a:ext cx="349560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352440" y="3592440"/>
          <a:ext cx="4753080" cy="928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2440" y="3592440"/>
                    <a:ext cx="475308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1752480" y="4800600"/>
            <a:ext cx="2514600" cy="10666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282680" y="4876920"/>
          <a:ext cx="2949480" cy="928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82680" y="4876920"/>
                    <a:ext cx="294948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0" name=""/>
          <p:cNvGrpSpPr/>
          <p:nvPr/>
        </p:nvGrpSpPr>
        <p:grpSpPr>
          <a:xfrm>
            <a:off x="5638680" y="2971800"/>
            <a:ext cx="3505320" cy="3660120"/>
            <a:chOff x="5638680" y="2971800"/>
            <a:chExt cx="3505320" cy="3660120"/>
          </a:xfrm>
        </p:grpSpPr>
        <p:sp>
          <p:nvSpPr>
            <p:cNvPr id="181" name=""/>
            <p:cNvSpPr/>
            <p:nvPr/>
          </p:nvSpPr>
          <p:spPr>
            <a:xfrm flipH="1" flipV="1">
              <a:off x="6629400" y="2971800"/>
              <a:ext cx="457200" cy="137160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8680" y="4343400"/>
              <a:ext cx="35053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Get a common denominator - this is going to be our index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181120" y="3581280"/>
            <a:ext cx="3505680" cy="1191240"/>
            <a:chOff x="5181120" y="3581280"/>
            <a:chExt cx="3505680" cy="1191240"/>
          </a:xfrm>
        </p:grpSpPr>
        <p:sp>
          <p:nvSpPr>
            <p:cNvPr id="184" name=""/>
            <p:cNvSpPr/>
            <p:nvPr/>
          </p:nvSpPr>
          <p:spPr>
            <a:xfrm flipH="1">
              <a:off x="5181120" y="4114800"/>
              <a:ext cx="1219320" cy="144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48520" y="3581280"/>
              <a:ext cx="2438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Rewrite as a radical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495680" y="1295280"/>
          <a:ext cx="3200400" cy="167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1295280"/>
                    <a:ext cx="320040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304920" y="3124080"/>
          <a:ext cx="4168800" cy="1776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3124080"/>
                    <a:ext cx="4168800" cy="17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648320" y="3276720"/>
          <a:ext cx="190476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48320" y="3276720"/>
                    <a:ext cx="190476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4800600" y="5181480"/>
            <a:ext cx="2362320" cy="12956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80880" y="1219320"/>
          <a:ext cx="3810240" cy="175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0880" y="1219320"/>
                    <a:ext cx="3810240" cy="17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380880" y="4952880"/>
          <a:ext cx="3456000" cy="1623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80880" y="4952880"/>
                    <a:ext cx="345600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167360" y="5240160"/>
          <a:ext cx="2892240" cy="1200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167360" y="5240160"/>
                    <a:ext cx="289224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0" name=""/>
          <p:cNvGrpSpPr/>
          <p:nvPr/>
        </p:nvGrpSpPr>
        <p:grpSpPr>
          <a:xfrm>
            <a:off x="6172200" y="2437920"/>
            <a:ext cx="3048120" cy="2030040"/>
            <a:chOff x="6172200" y="2437920"/>
            <a:chExt cx="3048120" cy="2030040"/>
          </a:xfrm>
        </p:grpSpPr>
        <p:sp>
          <p:nvSpPr>
            <p:cNvPr id="201" name=""/>
            <p:cNvSpPr/>
            <p:nvPr/>
          </p:nvSpPr>
          <p:spPr>
            <a:xfrm flipH="1" flipV="1">
              <a:off x="7696440" y="2437920"/>
              <a:ext cx="380880" cy="76212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72200" y="3276720"/>
              <a:ext cx="3048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Remember we add exponents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2590920" y="3757680"/>
          <a:ext cx="3352680" cy="294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3757680"/>
                    <a:ext cx="335268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80880" y="1295280"/>
          <a:ext cx="1443240" cy="1746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1295280"/>
                    <a:ext cx="1443240" cy="17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989000" y="838080"/>
          <a:ext cx="2432160" cy="2743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9000" y="838080"/>
                    <a:ext cx="243216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4419720" y="838080"/>
          <a:ext cx="1734840" cy="3048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19720" y="838080"/>
                    <a:ext cx="17348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6095880" y="1495440"/>
          <a:ext cx="1638360" cy="2314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95880" y="1495440"/>
                    <a:ext cx="16383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7696080" y="838080"/>
          <a:ext cx="1251000" cy="28958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696080" y="838080"/>
                    <a:ext cx="12510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86400" y="441648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To rationalize the denominator we want an integer exponen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52280" y="3657600"/>
          <a:ext cx="2371680" cy="3100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52280" y="3657600"/>
                    <a:ext cx="2371680" cy="31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943600" y="4189320"/>
          <a:ext cx="1849320" cy="19065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943600" y="4189320"/>
                    <a:ext cx="1849320" cy="19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6629400" y="4038480"/>
            <a:ext cx="1143000" cy="23623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228600" y="3962520"/>
          <a:ext cx="1790640" cy="25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3962520"/>
                    <a:ext cx="179064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600200" y="990720"/>
          <a:ext cx="2743200" cy="2743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990720"/>
                    <a:ext cx="27432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4114800" y="1486080"/>
          <a:ext cx="2394000" cy="2628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14800" y="1486080"/>
                    <a:ext cx="2394000" cy="26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6477120" y="1477800"/>
          <a:ext cx="1581120" cy="2484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477120" y="1477800"/>
                    <a:ext cx="158112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7950240" y="896760"/>
          <a:ext cx="1193760" cy="3065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950240" y="896760"/>
                    <a:ext cx="1193760" cy="30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5486400" y="441648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To rationalize the denominator we want an integer exponen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133720" y="4267080"/>
          <a:ext cx="2427120" cy="2195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133720" y="4267080"/>
                    <a:ext cx="2427120" cy="21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2743200" y="4191120"/>
            <a:ext cx="1752480" cy="236196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52280" y="1295280"/>
          <a:ext cx="1609920" cy="19940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52280" y="1295280"/>
                    <a:ext cx="1609920" cy="19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1905120" y="4191120"/>
          <a:ext cx="5433840" cy="133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4191120"/>
                    <a:ext cx="5433840" cy="13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828800" y="782640"/>
          <a:ext cx="2182680" cy="3179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28800" y="782640"/>
                    <a:ext cx="218268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3962520" y="681120"/>
          <a:ext cx="2512800" cy="3585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62520" y="681120"/>
                    <a:ext cx="2512800" cy="35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6438960" y="990720"/>
          <a:ext cx="1638360" cy="2877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438960" y="990720"/>
                    <a:ext cx="1638360" cy="28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152280" y="3657600"/>
          <a:ext cx="1641600" cy="3100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2280" y="3657600"/>
                    <a:ext cx="1641600" cy="31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7848720" y="4419720"/>
            <a:ext cx="1143000" cy="11430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228600" y="1295280"/>
          <a:ext cx="1650960" cy="2286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8600" y="1295280"/>
                    <a:ext cx="16509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7315200" y="4572000"/>
          <a:ext cx="1619280" cy="925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315200" y="4572000"/>
                    <a:ext cx="161928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704960" y="762120"/>
          <a:ext cx="2432160" cy="317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04960" y="762120"/>
                    <a:ext cx="2432160" cy="31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8077320" y="4648320"/>
            <a:ext cx="914400" cy="17524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228600" y="914400"/>
          <a:ext cx="1515960" cy="256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914400"/>
                    <a:ext cx="151596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4065480" y="782640"/>
          <a:ext cx="2868840" cy="3179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65480" y="782640"/>
                    <a:ext cx="286884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200160" y="4114800"/>
          <a:ext cx="3305160" cy="2057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0160" y="4114800"/>
                    <a:ext cx="330516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3143160" y="4405320"/>
          <a:ext cx="2495520" cy="1933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143160" y="4405320"/>
                    <a:ext cx="24955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5486400" y="4511520"/>
          <a:ext cx="2133720" cy="18892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486400" y="4511520"/>
                    <a:ext cx="2133720" cy="18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7521480" y="4572000"/>
          <a:ext cx="1494000" cy="1781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521480" y="4572000"/>
                    <a:ext cx="1494000" cy="17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187720" y="928800"/>
          <a:ext cx="2993760" cy="349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87720" y="928800"/>
                    <a:ext cx="2993760" cy="34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3809880" y="4724280"/>
            <a:ext cx="2210040" cy="20574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3262320" y="4809960"/>
          <a:ext cx="2757600" cy="1895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62320" y="4809960"/>
                    <a:ext cx="2757600" cy="18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177840" y="1644480"/>
          <a:ext cx="2108160" cy="2470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7840" y="1644480"/>
                    <a:ext cx="2108160" cy="24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533520" y="4511520"/>
          <a:ext cx="2361960" cy="2149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3520" y="4511520"/>
                    <a:ext cx="2361960" cy="21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5105520" y="990720"/>
            <a:ext cx="4038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Comic Sans MS"/>
              </a:rPr>
              <a:t>Multiply by conjugate and use FOIL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9880" y="4876920"/>
            <a:ext cx="2971800" cy="15238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0" y="1143000"/>
          <a:ext cx="1905120" cy="18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43000"/>
                    <a:ext cx="1905120" cy="18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1752480" y="1143000"/>
          <a:ext cx="3505320" cy="1860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52480" y="1143000"/>
                    <a:ext cx="3505320" cy="18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5029200" y="1171440"/>
          <a:ext cx="4038480" cy="1876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29200" y="1171440"/>
                    <a:ext cx="4038480" cy="18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281160" y="3360600"/>
          <a:ext cx="4976640" cy="1363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81160" y="3360600"/>
                    <a:ext cx="497664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5065560" y="3360600"/>
          <a:ext cx="3544920" cy="1363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065560" y="3360600"/>
                    <a:ext cx="354492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3014640" y="4952880"/>
          <a:ext cx="3613320" cy="1363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014640" y="4952880"/>
                    <a:ext cx="361332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5867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4c2b"/>
                </a:solidFill>
                <a:latin typeface="Comic Sans MS"/>
              </a:rPr>
              <a:t>Definition of</a:t>
            </a:r>
            <a:endParaRPr b="0" lang="en-US" sz="7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Comic Sans MS"/>
              </a:rPr>
              <a:t>For any real number b and any integer n &gt; 1,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Comic Sans MS"/>
              </a:rPr>
              <a:t>except when b &lt; 0 and n is even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934320" y="0"/>
          <a:ext cx="1015920" cy="167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4320" y="0"/>
                    <a:ext cx="101592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051000" y="3276720"/>
          <a:ext cx="3121200" cy="1743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51000" y="3276720"/>
                    <a:ext cx="312120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0" y="838080"/>
          <a:ext cx="2151000" cy="342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838080"/>
                    <a:ext cx="2151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250920" y="4648320"/>
          <a:ext cx="5083200" cy="1581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4648320"/>
                    <a:ext cx="508320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5367240" y="4745160"/>
          <a:ext cx="3090960" cy="1579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67240" y="4745160"/>
                    <a:ext cx="3090960" cy="15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2133720" y="1212840"/>
          <a:ext cx="4327560" cy="2749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33720" y="1212840"/>
                    <a:ext cx="4327560" cy="27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3801960" y="1295280"/>
          <a:ext cx="4532400" cy="158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1960" y="1295280"/>
                    <a:ext cx="453240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2400480" y="3657600"/>
          <a:ext cx="4257360" cy="1100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00480" y="3657600"/>
                    <a:ext cx="425736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2971800" y="3581280"/>
            <a:ext cx="3809880" cy="12193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80880" y="1295280"/>
          <a:ext cx="3090960" cy="1579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1295280"/>
                    <a:ext cx="309096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2590920" y="1143000"/>
          <a:ext cx="3101760" cy="352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1143000"/>
                    <a:ext cx="3101760" cy="35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8381880" y="4876920"/>
            <a:ext cx="685800" cy="16002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304920" y="1143000"/>
          <a:ext cx="2528640" cy="3048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1143000"/>
                    <a:ext cx="25286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5257800" y="1544760"/>
          <a:ext cx="3519360" cy="2566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57800" y="1544760"/>
                    <a:ext cx="3519360" cy="25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38160" y="4443480"/>
          <a:ext cx="3162240" cy="2566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160" y="4443480"/>
                    <a:ext cx="3162240" cy="25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2743200" y="4724280"/>
          <a:ext cx="3043080" cy="1373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743200" y="4724280"/>
                    <a:ext cx="3043080" cy="13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5489640" y="4702320"/>
          <a:ext cx="2268360" cy="1850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489640" y="4702320"/>
                    <a:ext cx="2268360" cy="18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7754760" y="4702320"/>
          <a:ext cx="1312920" cy="18507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754760" y="4702320"/>
                    <a:ext cx="1312920" cy="18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181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4c2b"/>
                </a:solidFill>
                <a:latin typeface="Comic Sans MS"/>
              </a:rPr>
              <a:t>Examples:</a:t>
            </a:r>
            <a:endParaRPr b="0" lang="en-US" sz="72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712960" y="1886040"/>
          <a:ext cx="2468520" cy="116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12960" y="1886040"/>
                    <a:ext cx="246852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12920" y="1371600"/>
          <a:ext cx="2249280" cy="1670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2920" y="1371600"/>
                    <a:ext cx="224928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5181480" y="2173320"/>
          <a:ext cx="1379520" cy="798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81480" y="2173320"/>
                    <a:ext cx="1379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5943600" y="2057400"/>
            <a:ext cx="609480" cy="9907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676600" y="3790800"/>
          <a:ext cx="2541600" cy="1162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76600" y="3790800"/>
                    <a:ext cx="254160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39840" y="3276720"/>
          <a:ext cx="2395440" cy="1670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39840" y="3276720"/>
                    <a:ext cx="239544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145120" y="4078440"/>
          <a:ext cx="1452600" cy="798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145120" y="4078440"/>
                    <a:ext cx="145260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5943600" y="3962520"/>
            <a:ext cx="609480" cy="99036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2743200" y="990720"/>
          <a:ext cx="2781360" cy="284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990720"/>
                    <a:ext cx="2781360" cy="28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95120" y="1371600"/>
          <a:ext cx="2686320" cy="1670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120" y="1371600"/>
                    <a:ext cx="268632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5257800" y="1523880"/>
          <a:ext cx="2286000" cy="2159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57800" y="1523880"/>
                    <a:ext cx="2286000" cy="21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8153280" y="1752480"/>
            <a:ext cx="685800" cy="19051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952880" y="4724280"/>
          <a:ext cx="1905120" cy="1089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52880" y="4724280"/>
                    <a:ext cx="190512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52280" y="3809880"/>
          <a:ext cx="2886120" cy="2822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2280" y="3809880"/>
                    <a:ext cx="2886120" cy="28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6894360" y="4876920"/>
          <a:ext cx="1379520" cy="798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894360" y="4876920"/>
                    <a:ext cx="1379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7620120" y="4800600"/>
            <a:ext cx="609480" cy="9907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5181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467480" y="1600200"/>
          <a:ext cx="1370160" cy="2022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467480" y="1600200"/>
                    <a:ext cx="1370160" cy="20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819520" y="4343400"/>
          <a:ext cx="2052360" cy="1795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819520" y="4343400"/>
                    <a:ext cx="205236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Economists refer to inflation as increases in the average cost of purchases. The formula    C = c(1 + r)</a:t>
            </a:r>
            <a:r>
              <a:rPr b="0" lang="en-US" sz="3200" spc="-1" strike="noStrike" baseline="30000">
                <a:solidFill>
                  <a:srgbClr val="333333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 can be used to predict the cost of consumer items at some projected time. In this formula C represents the projected cost of the item at the given annual inflation rate, c the present cost of the item and r is the rate of inflation (in decimal form), and n is the number of years for the projection. Suppose a gallon of milk costs $2.69 now. How much would the price increase in 6 months with an inflation rate of 5.3%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mic Sans MS"/>
              </a:rPr>
              <a:t>Step 1: Identify the known valu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990720"/>
            <a:ext cx="838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Comic Sans MS"/>
              </a:rPr>
              <a:t>Formula</a:t>
            </a:r>
            <a:r>
              <a:rPr b="0" lang="en-US" sz="4800" spc="-1" strike="noStrike">
                <a:solidFill>
                  <a:srgbClr val="333333"/>
                </a:solidFill>
                <a:latin typeface="Comic Sans MS"/>
              </a:rPr>
              <a:t>  C = c(1 + r)</a:t>
            </a:r>
            <a:r>
              <a:rPr b="0" lang="en-US" sz="4800" spc="-1" strike="noStrike" baseline="30000">
                <a:solidFill>
                  <a:srgbClr val="333333"/>
                </a:solidFill>
                <a:latin typeface="Comic Sans MS"/>
              </a:rPr>
              <a:t>n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76320" y="20131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c = $2.69 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present cost of the item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r = 0.053 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rate of inflation (in decimal form)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n = 1/2 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# of years for the projectio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mic Sans MS"/>
              </a:rPr>
              <a:t>Step 2: Find the value for C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990720"/>
            <a:ext cx="838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Comic Sans MS"/>
              </a:rPr>
              <a:t>Formula</a:t>
            </a:r>
            <a:r>
              <a:rPr b="0" lang="en-US" sz="4800" spc="-1" strike="noStrike">
                <a:solidFill>
                  <a:srgbClr val="333333"/>
                </a:solidFill>
                <a:latin typeface="Comic Sans MS"/>
              </a:rPr>
              <a:t>  C = c(1 + r)</a:t>
            </a:r>
            <a:r>
              <a:rPr b="0" lang="en-US" sz="4800" spc="-1" strike="noStrike" baseline="30000">
                <a:solidFill>
                  <a:srgbClr val="333333"/>
                </a:solidFill>
                <a:latin typeface="Comic Sans MS"/>
              </a:rPr>
              <a:t>n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-76320" y="2013120"/>
            <a:ext cx="9144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Comic Sans MS"/>
              </a:rPr>
              <a:t>C = </a:t>
            </a: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2.69</a:t>
            </a:r>
            <a:r>
              <a:rPr b="0" lang="en-US" sz="4800" spc="-1" strike="noStrike">
                <a:solidFill>
                  <a:srgbClr val="333333"/>
                </a:solidFill>
                <a:latin typeface="Comic Sans MS"/>
              </a:rPr>
              <a:t>(1 + 0.053)</a:t>
            </a:r>
            <a:r>
              <a:rPr b="0" lang="en-US" sz="4800" spc="-1" strike="noStrike" baseline="30000">
                <a:solidFill>
                  <a:srgbClr val="333333"/>
                </a:solidFill>
                <a:latin typeface="Comic Sans MS"/>
              </a:rPr>
              <a:t>1/2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C = 2.69</a:t>
            </a:r>
            <a:r>
              <a:rPr b="0" lang="en-US" sz="4800" spc="-1" strike="noStrike">
                <a:solidFill>
                  <a:srgbClr val="333333"/>
                </a:solidFill>
                <a:latin typeface="Comic Sans MS"/>
              </a:rPr>
              <a:t>(1.053)</a:t>
            </a:r>
            <a:r>
              <a:rPr b="0" lang="en-US" sz="4800" spc="-1" strike="noStrike" baseline="30000">
                <a:solidFill>
                  <a:srgbClr val="333333"/>
                </a:solidFill>
                <a:latin typeface="Comic Sans MS"/>
              </a:rPr>
              <a:t>1/2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C = $2.76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484520"/>
            <a:ext cx="91440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Comic Sans MS"/>
              </a:rPr>
              <a:t>Answer the question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Comic Sans MS"/>
              </a:rPr>
              <a:t>How much would the price increase?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$2.76-$2.69 = $0.07 or 7¢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Comic Sans MS"/>
              </a:rPr>
              <a:t>Definition of </a:t>
            </a:r>
            <a:r>
              <a:rPr b="1" lang="en-US" sz="4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Rational Expone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0" y="17524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Comic Sans MS"/>
              </a:rPr>
              <a:t>For any nonzero number b and any integers m and n with n &gt; 1,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Comic Sans MS"/>
              </a:rPr>
              <a:t>except when b &lt; 0 and n is even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406520" y="3505320"/>
          <a:ext cx="6442200" cy="212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6520" y="3505320"/>
                    <a:ext cx="6442200" cy="21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Comic Sans MS"/>
              </a:rPr>
              <a:t>NOTE: There are 3 different ways to write a </a:t>
            </a:r>
            <a:r>
              <a:rPr b="1" lang="en-US" sz="4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rational exponen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914400" y="3429000"/>
          <a:ext cx="7264440" cy="212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3429000"/>
                    <a:ext cx="7264440" cy="21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4:18:20Z</dcterms:created>
  <dc:creator>HCPS</dc:creator>
  <dc:description/>
  <dc:language>en-US</dc:language>
  <cp:lastModifiedBy>HCPS</cp:lastModifiedBy>
  <dcterms:modified xsi:type="dcterms:W3CDTF">2003-07-30T12:34:31Z</dcterms:modified>
  <cp:revision>36</cp:revision>
  <dc:subject/>
  <dc:title>Rational Exponents</dc:title>
</cp:coreProperties>
</file>