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70.pct" ContentType="image/x-pict"/>
  <Override PartName="/ppt/media/image20.pct" ContentType="image/x-pict"/>
  <Override PartName="/ppt/media/image57.pct" ContentType="image/x-pict"/>
  <Override PartName="/ppt/media/image4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1.jpeg" ContentType="image/jpeg"/>
  <Override PartName="/ppt/media/image35.pct" ContentType="image/x-pict"/>
  <Override PartName="/ppt/media/image10.pct" ContentType="image/x-pict"/>
  <Override PartName="/ppt/media/image4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BE4-8CCB-406A-B865-033D3D31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C1D-2760-4CD2-BDF2-96BE03D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C0F-3FE5-49AA-AEEE-9E83DE1A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45A-E40E-4B29-A6D0-E1019D7A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C79-77B7-46B9-9101-7E0CCF02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C172-65FA-4854-B45A-30909B4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EC83-FB0E-4340-903C-3780120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DB6-BBB6-4ECA-B7CD-41D78075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1AB-238C-4153-9701-3721AB7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BEE-CC34-4F81-AFE4-1320B6FE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B476-6DAE-4745-946A-AE2645B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8FF-21FC-45EC-B5AC-44436504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03D-62F2-4569-8A4B-13716B1C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DCD0-1179-4D9A-8E3D-58BF73D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DC9F-02B0-4B3D-82AB-12006457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ADF-747C-4F76-9688-477DE73B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6D3-62E5-4B09-B229-206924C7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168-811A-44CD-AF40-B66E402B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C0E-0650-47CC-A56C-09D1D9AE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7F6-579B-4B5F-A38A-7FF145F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E7D-32C3-4912-8052-F5E3637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BC8-2040-49C3-9A79-EBCF375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585-085D-45C2-8349-D2D8F93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1D2-5C8D-4013-8ABE-0D4A9DE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B046-C2C7-482D-96D7-EA3FD5079EC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69A-6BDE-4A63-B392-3DF856292E0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pct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0.pct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1.pct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ct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pct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6.pct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ct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ct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9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0.pct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3.pct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ct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c2b"/>
                </a:solidFill>
                <a:latin typeface="Comic Sans MS"/>
              </a:rPr>
              <a:t>Rational Exponents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In other words, exponents that are fractions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895480"/>
          <a:ext cx="21924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95480"/>
                    <a:ext cx="2192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193920"/>
          <a:ext cx="251460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19392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0680" y="1295280"/>
          <a:ext cx="21240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680" y="12952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429000"/>
          <a:ext cx="1694160" cy="125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34290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3733920"/>
          <a:ext cx="1311480" cy="60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3733920"/>
                    <a:ext cx="1311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90920" y="1600200"/>
          <a:ext cx="2514600" cy="15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160020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828800"/>
          <a:ext cx="1694160" cy="125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2880" y="18288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515280" y="2141640"/>
          <a:ext cx="169380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15280" y="2141640"/>
                    <a:ext cx="1693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86600" y="2057400"/>
            <a:ext cx="11430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576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0680" y="4495680"/>
          <a:ext cx="2124000" cy="15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0680" y="44956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0200" y="4794120"/>
          <a:ext cx="2460600" cy="153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0200" y="4794120"/>
                    <a:ext cx="2460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5029200"/>
          <a:ext cx="1694160" cy="125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50292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54680" y="5334120"/>
          <a:ext cx="1365480" cy="601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54680" y="5334120"/>
                    <a:ext cx="1365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52578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Simplifying Expression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negative exponen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fractional exponents in the denomin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complex fractions (fraction within a fractio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e index of any remaining radical is the least possible numb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9880" y="1515960"/>
          <a:ext cx="392292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515960"/>
                    <a:ext cx="392292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2000" y="1395360"/>
          <a:ext cx="3495600" cy="15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395360"/>
                    <a:ext cx="3495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2440" y="3592440"/>
          <a:ext cx="47530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" y="3592440"/>
                    <a:ext cx="47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2480" y="480060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82680" y="4876920"/>
          <a:ext cx="2949480" cy="92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4876920"/>
                    <a:ext cx="2949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5638680" y="2971800"/>
            <a:ext cx="3505320" cy="3660120"/>
            <a:chOff x="5638680" y="2971800"/>
            <a:chExt cx="3505320" cy="3660120"/>
          </a:xfrm>
        </p:grpSpPr>
        <p:sp>
          <p:nvSpPr>
            <p:cNvPr id="181" name=""/>
            <p:cNvSpPr/>
            <p:nvPr/>
          </p:nvSpPr>
          <p:spPr>
            <a:xfrm flipH="1" flipV="1">
              <a:off x="6629400" y="2971800"/>
              <a:ext cx="457200" cy="137160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4343400"/>
              <a:ext cx="3505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Get a common denominator - this is going to be our index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120" y="3581280"/>
            <a:ext cx="3505680" cy="1191240"/>
            <a:chOff x="5181120" y="3581280"/>
            <a:chExt cx="3505680" cy="1191240"/>
          </a:xfrm>
        </p:grpSpPr>
        <p:sp>
          <p:nvSpPr>
            <p:cNvPr id="184" name=""/>
            <p:cNvSpPr/>
            <p:nvPr/>
          </p:nvSpPr>
          <p:spPr>
            <a:xfrm flipH="1">
              <a:off x="5181120" y="4114800"/>
              <a:ext cx="1219320" cy="14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581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write as a radical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95680" y="1295280"/>
          <a:ext cx="3200400" cy="16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295280"/>
                    <a:ext cx="3200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920" y="3124080"/>
          <a:ext cx="4168800" cy="17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416880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8320" y="3276720"/>
          <a:ext cx="190476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27672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5181480"/>
            <a:ext cx="2362320" cy="12956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219320"/>
          <a:ext cx="3810240" cy="17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1219320"/>
                    <a:ext cx="38102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0880" y="4952880"/>
          <a:ext cx="3456000" cy="162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95288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67360" y="5240160"/>
          <a:ext cx="289224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7360" y="5240160"/>
                    <a:ext cx="289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172200" y="2437920"/>
            <a:ext cx="3048120" cy="2030040"/>
            <a:chOff x="6172200" y="2437920"/>
            <a:chExt cx="3048120" cy="2030040"/>
          </a:xfrm>
        </p:grpSpPr>
        <p:sp>
          <p:nvSpPr>
            <p:cNvPr id="201" name=""/>
            <p:cNvSpPr/>
            <p:nvPr/>
          </p:nvSpPr>
          <p:spPr>
            <a:xfrm flipH="1" flipV="1">
              <a:off x="7696440" y="2437920"/>
              <a:ext cx="380880" cy="76212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member we add exponents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90920" y="3757680"/>
          <a:ext cx="3352680" cy="29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7680"/>
                    <a:ext cx="33526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295280"/>
          <a:ext cx="1443240" cy="17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295280"/>
                    <a:ext cx="14432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9000" y="838080"/>
          <a:ext cx="243216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9000" y="838080"/>
                    <a:ext cx="2432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838080"/>
          <a:ext cx="1734840" cy="304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838080"/>
                    <a:ext cx="1734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5880" y="1495440"/>
          <a:ext cx="1638360" cy="23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1495440"/>
                    <a:ext cx="1638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96080" y="838080"/>
          <a:ext cx="125100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838080"/>
                    <a:ext cx="1251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280" y="3657600"/>
          <a:ext cx="2371680" cy="3100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3657600"/>
                    <a:ext cx="23716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943600" y="4189320"/>
          <a:ext cx="1849320" cy="190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4189320"/>
                    <a:ext cx="18493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29400" y="4038480"/>
            <a:ext cx="1143000" cy="2362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3962520"/>
          <a:ext cx="179064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62520"/>
                    <a:ext cx="1790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990720"/>
          <a:ext cx="27432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99072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14800" y="1486080"/>
          <a:ext cx="2394000" cy="26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1486080"/>
                    <a:ext cx="239400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477120" y="1477800"/>
          <a:ext cx="1581120" cy="248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477800"/>
                    <a:ext cx="1581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950240" y="896760"/>
          <a:ext cx="1193760" cy="306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0240" y="896760"/>
                    <a:ext cx="119376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4267080"/>
          <a:ext cx="2427120" cy="21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267080"/>
                    <a:ext cx="2427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743200" y="4191120"/>
            <a:ext cx="1752480" cy="2361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295280"/>
          <a:ext cx="1609920" cy="199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1295280"/>
                    <a:ext cx="16099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905120" y="4191120"/>
          <a:ext cx="543384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91120"/>
                    <a:ext cx="543384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28800" y="782640"/>
          <a:ext cx="2182680" cy="317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782640"/>
                    <a:ext cx="21826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62520" y="681120"/>
          <a:ext cx="2512800" cy="35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681120"/>
                    <a:ext cx="251280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438960" y="990720"/>
          <a:ext cx="1638360" cy="28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8960" y="990720"/>
                    <a:ext cx="163836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657600"/>
          <a:ext cx="1641600" cy="310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657600"/>
                    <a:ext cx="164160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48720" y="4419720"/>
            <a:ext cx="11430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295280"/>
          <a:ext cx="1650960" cy="228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1295280"/>
                    <a:ext cx="1650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15200" y="4572000"/>
          <a:ext cx="1619280" cy="92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4572000"/>
                    <a:ext cx="1619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04960" y="762120"/>
          <a:ext cx="2432160" cy="31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762120"/>
                    <a:ext cx="2432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77320" y="4648320"/>
            <a:ext cx="914400" cy="17524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14400"/>
          <a:ext cx="1515960" cy="25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14400"/>
                    <a:ext cx="15159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65480" y="782640"/>
          <a:ext cx="2868840" cy="317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5480" y="782640"/>
                    <a:ext cx="2868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00160" y="4114800"/>
          <a:ext cx="330516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160" y="4114800"/>
                    <a:ext cx="3305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143160" y="4405320"/>
          <a:ext cx="2495520" cy="193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43160" y="4405320"/>
                    <a:ext cx="2495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486400" y="4511520"/>
          <a:ext cx="2133720" cy="188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4511520"/>
                    <a:ext cx="21337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521480" y="4572000"/>
          <a:ext cx="1494000" cy="17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21480" y="4572000"/>
                    <a:ext cx="149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87720" y="928800"/>
          <a:ext cx="2993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7720" y="928800"/>
                    <a:ext cx="2993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9880" y="4724280"/>
            <a:ext cx="221004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62320" y="4809960"/>
          <a:ext cx="2757600" cy="189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2320" y="4809960"/>
                    <a:ext cx="27576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7840" y="1644480"/>
          <a:ext cx="2108160" cy="247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40" y="1644480"/>
                    <a:ext cx="210816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3520" y="4511520"/>
          <a:ext cx="2361960" cy="214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511520"/>
                    <a:ext cx="23619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05520" y="99072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ultiply by conjugate and use FOI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4876920"/>
            <a:ext cx="2971800" cy="15238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143000"/>
          <a:ext cx="190512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19051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752480" y="1143000"/>
          <a:ext cx="35053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143000"/>
                    <a:ext cx="35053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29200" y="1171440"/>
          <a:ext cx="4038480" cy="187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1171440"/>
                    <a:ext cx="40384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1160" y="3360600"/>
          <a:ext cx="4976640" cy="13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160" y="3360600"/>
                    <a:ext cx="4976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065560" y="3360600"/>
          <a:ext cx="3544920" cy="13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5560" y="3360600"/>
                    <a:ext cx="35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14640" y="4952880"/>
          <a:ext cx="3613320" cy="13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4640" y="4952880"/>
                    <a:ext cx="36133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Definition of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For any real number b and any integer n &gt; 1,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34320" y="0"/>
          <a:ext cx="101592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1015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51000" y="3276720"/>
          <a:ext cx="312120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1000" y="3276720"/>
                    <a:ext cx="31212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838080"/>
          <a:ext cx="2151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2151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648320"/>
          <a:ext cx="5083200" cy="15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648320"/>
                    <a:ext cx="5083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367240" y="4745160"/>
          <a:ext cx="3090960" cy="157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7240" y="4745160"/>
                    <a:ext cx="3090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1212840"/>
          <a:ext cx="4327560" cy="274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212840"/>
                    <a:ext cx="43275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801960" y="1295280"/>
          <a:ext cx="45324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1295280"/>
                    <a:ext cx="4532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400480" y="3657600"/>
          <a:ext cx="4257360" cy="11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00480" y="3657600"/>
                    <a:ext cx="4257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971800" y="3581280"/>
            <a:ext cx="3809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295280"/>
          <a:ext cx="3090960" cy="157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295280"/>
                    <a:ext cx="30909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90920" y="1143000"/>
          <a:ext cx="31017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143000"/>
                    <a:ext cx="31017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381880" y="4876920"/>
            <a:ext cx="68580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1143000"/>
          <a:ext cx="252864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143000"/>
                    <a:ext cx="2528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57800" y="1544760"/>
          <a:ext cx="3519360" cy="25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44760"/>
                    <a:ext cx="351936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160" y="4443480"/>
          <a:ext cx="3162240" cy="256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60" y="4443480"/>
                    <a:ext cx="3162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743200" y="4724280"/>
          <a:ext cx="3043080" cy="137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3200" y="4724280"/>
                    <a:ext cx="304308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489640" y="4702320"/>
          <a:ext cx="2268360" cy="185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9640" y="4702320"/>
                    <a:ext cx="22683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54760" y="4702320"/>
          <a:ext cx="1312920" cy="18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54760" y="4702320"/>
                    <a:ext cx="131292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12960" y="1886040"/>
          <a:ext cx="246852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2960" y="1886040"/>
                    <a:ext cx="24685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2920" y="1371600"/>
          <a:ext cx="224928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920" y="1371600"/>
                    <a:ext cx="224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2173320"/>
          <a:ext cx="1379520" cy="79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1733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943600" y="20574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6600" y="3790800"/>
          <a:ext cx="254160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76600" y="3790800"/>
                    <a:ext cx="2541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9840" y="3276720"/>
          <a:ext cx="2395440" cy="167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9840" y="3276720"/>
                    <a:ext cx="2395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5120" y="4078440"/>
          <a:ext cx="145260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5120" y="4078440"/>
                    <a:ext cx="1452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3600" y="3962520"/>
            <a:ext cx="609480" cy="990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743200" y="990720"/>
          <a:ext cx="278136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27813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1371600"/>
          <a:ext cx="268632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120" y="1371600"/>
                    <a:ext cx="26863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1523880"/>
          <a:ext cx="2286000" cy="215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23880"/>
                    <a:ext cx="22860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153280" y="1752480"/>
            <a:ext cx="685800" cy="1905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4724280"/>
          <a:ext cx="190512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724280"/>
                    <a:ext cx="1905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2280" y="3809880"/>
          <a:ext cx="2886120" cy="282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809880"/>
                    <a:ext cx="288612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94360" y="4876920"/>
          <a:ext cx="137952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94360" y="48769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0120" y="48006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67480" y="1600200"/>
          <a:ext cx="1370160" cy="2022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67480" y="1600200"/>
                    <a:ext cx="1370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4343400"/>
          <a:ext cx="2052360" cy="179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343400"/>
                    <a:ext cx="20523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Economists refer to inflation as increases in the average cost of purchases. The formula    C = c(1 + r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can be used to predict the cost of consumer items at some projected time. In this formula C represents the projected cost of the item at the given annual inflation rate, c the present cost of the item and r is the rate of inflation (in decimal form), and n is the number of years for the projection. Suppose a gallon of milk costs $2.69 now. How much would the price increase in 6 months with an inflation rate of 5.3%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1: Identify the known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20131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69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present cost of the ite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 = 0.053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ate of inflation (in decimal for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n = 1/2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# of years for the proj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2: Find the value for 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320" y="201312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C = </a:t>
            </a: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 + 0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7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845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Answer the questio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How much would the price increas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$2.76-$2.69 = $0.07 or 7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Definition of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For any nonzero number b and any integers m and n with n &gt; 1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06520" y="3505320"/>
          <a:ext cx="64422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3505320"/>
                    <a:ext cx="64422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NOTE: There are 3 different ways to write a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429000"/>
          <a:ext cx="7264440" cy="21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429000"/>
                    <a:ext cx="726444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0Z</dcterms:created>
  <dc:creator>HCPS</dc:creator>
  <dc:description/>
  <dc:language>en-US</dc:language>
  <cp:lastModifiedBy>HCPS</cp:lastModifiedBy>
  <dcterms:modified xsi:type="dcterms:W3CDTF">2003-07-30T12:34:31Z</dcterms:modified>
  <cp:revision>36</cp:revision>
  <dc:subject/>
  <dc:title>Rational Exponents</dc:title>
</cp:coreProperties>
</file>