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86B-1A80-48D8-A584-8000076B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7A9-645D-43F9-9FEF-11D17C03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D43-FB8F-4DA4-BB44-7F99BE44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C4B-AF05-48B7-A240-439B371C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075-0EDA-4FDF-A58B-B3CF207C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CB9-ED91-4E62-9AD6-9B67583F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F03-848C-471F-8190-EA072F1F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C4B-BDE5-4556-AA1C-42C32790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733-350D-4C79-8DFB-AB895971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708-92E6-4619-85BA-32DD1EA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211-1606-442A-9CB0-AEA194F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31D-D09B-4CFA-B18C-4DE518E0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81CA-F173-4CB6-A297-F54C9E381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752480"/>
            <a:ext cx="8991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tional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1040" y="463680"/>
            <a:ext cx="8445600" cy="2120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23238d"/>
              </a:gs>
              <a:gs pos="100000">
                <a:srgbClr val="3333cc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9720" y="592200"/>
                <a:ext cx="82328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form the indicated operation and simplif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33520" y="2895480"/>
            <a:ext cx="754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STEP 1:  Find least common mu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68480" y="3571920"/>
                <a:ext cx="5486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44720" y="4408560"/>
                <a:ext cx="5891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95400" y="5595840"/>
                <a:ext cx="56484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M: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88960" y="560520"/>
                <a:ext cx="78390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3520" y="2111400"/>
                <a:ext cx="79405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1960" y="3510000"/>
                <a:ext cx="56865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44400" y="5132520"/>
                <a:ext cx="39369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683240" y="5121360"/>
                <a:ext cx="39272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5960" y="387360"/>
            <a:ext cx="7759800" cy="2273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8d0000"/>
              </a:gs>
              <a:gs pos="100000">
                <a:srgbClr val="cc00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70160" y="476280"/>
                <a:ext cx="4118040" cy="20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ify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26960" y="2935440"/>
                <a:ext cx="24512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62240" y="2948040"/>
                <a:ext cx="169380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75200" y="3395520"/>
                <a:ext cx="3241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213520" y="5099040"/>
                <a:ext cx="3060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19320"/>
            <a:ext cx="8458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otient of two polynomials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ional expres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30280" y="3132000"/>
                <a:ext cx="245592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98920" y="3138480"/>
                <a:ext cx="11289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305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Multiplying and Dividing Rationa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17600" y="2071800"/>
                <a:ext cx="4689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22280" y="3525840"/>
                <a:ext cx="663264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58720" y="1701720"/>
            <a:ext cx="7873920" cy="44449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609480"/>
            <a:ext cx="8458200" cy="6411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000000"/>
              </a:gs>
              <a:gs pos="100000">
                <a:srgbClr val="cc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73120" y="1461960"/>
                <a:ext cx="404640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46520" y="3017880"/>
                <a:ext cx="516564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81440" y="4890960"/>
                <a:ext cx="435744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1,0,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92200" y="592200"/>
                <a:ext cx="244476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14800" y="1100160"/>
                <a:ext cx="41576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1000" y="3386160"/>
                <a:ext cx="67752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73200" y="4910040"/>
                <a:ext cx="66564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33520"/>
            <a:ext cx="853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and Subtracting Rational Expressions, Denominators 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09680" y="2746440"/>
                <a:ext cx="49388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±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35040" y="2463840"/>
            <a:ext cx="7873920" cy="177804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5960" y="615960"/>
            <a:ext cx="8140680" cy="2959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000000"/>
              </a:gs>
              <a:gs pos="100000">
                <a:srgbClr val="cc33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838080"/>
            <a:ext cx="7620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 the res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79800" y="2243160"/>
                <a:ext cx="476568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31880" y="3767040"/>
                <a:ext cx="47656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23960" y="5000760"/>
                <a:ext cx="54406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57280" y="581040"/>
                <a:ext cx="544032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74920" y="2166840"/>
                <a:ext cx="50893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04800" y="3843360"/>
                <a:ext cx="242748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038480" y="3797280"/>
                <a:ext cx="30481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762120"/>
            <a:ext cx="8153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or Subtracting Two Rational Expressions, Denominators Un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47840" y="3214800"/>
                <a:ext cx="61959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58720" y="2997360"/>
            <a:ext cx="8026560" cy="17017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chael Sullivan</dc:creator>
  <dc:description/>
  <dc:language>en-US</dc:language>
  <cp:lastModifiedBy>Test0</cp:lastModifiedBy>
  <dcterms:modified xsi:type="dcterms:W3CDTF">2002-06-28T15:24:54Z</dcterms:modified>
  <cp:revision>4</cp:revision>
  <dc:subject/>
  <dc:title>No Slide Title</dc:title>
</cp:coreProperties>
</file>