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A33D-9785-494D-B3CD-51471712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3C9C-D5A2-4074-8465-F3CC9067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22E4-8018-480B-AAE9-979F9D674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BD05-898A-4407-B00E-84B1F708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B17A-2EF9-4905-817C-5A83CF52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B15F-B690-4402-BCC5-33DFC2D4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8CD3-813F-44EF-B9BE-E46ECC91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B489-A9CE-4928-A373-6AFBEC2A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E364-B3AC-4917-9850-9AA2C686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74CA-5B92-4A07-AEF5-2EECA618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B290-647E-44CA-8DFB-64E2DEBB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BDC3-FB42-4C36-ACC5-99487424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EA0C-42D2-4368-9D63-FAE750167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752480"/>
            <a:ext cx="899136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ational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1040" y="463680"/>
            <a:ext cx="8445600" cy="21207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23238d"/>
              </a:gs>
              <a:gs pos="100000">
                <a:srgbClr val="3333cc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69720" y="592200"/>
                <a:ext cx="823284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erform the indicated operation and simplif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533520" y="2895480"/>
            <a:ext cx="7543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STEP 1:  Find least common multi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968480" y="3571920"/>
                <a:ext cx="54864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944720" y="4408560"/>
                <a:ext cx="58910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895400" y="5595840"/>
                <a:ext cx="56484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CM: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88960" y="560520"/>
                <a:ext cx="783900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33520" y="2111400"/>
                <a:ext cx="794052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61960" y="3510000"/>
                <a:ext cx="568656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44400" y="5132520"/>
                <a:ext cx="393696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683240" y="5121360"/>
                <a:ext cx="39272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15960" y="387360"/>
            <a:ext cx="7759800" cy="22734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8d0000"/>
              </a:gs>
              <a:gs pos="100000">
                <a:srgbClr val="cc0000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270160" y="476280"/>
                <a:ext cx="4118040" cy="20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plify      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26960" y="2935440"/>
                <a:ext cx="2451240" cy="21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4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162240" y="2948040"/>
                <a:ext cx="1693800" cy="21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975200" y="3395520"/>
                <a:ext cx="32418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213520" y="5099040"/>
                <a:ext cx="306036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219320"/>
            <a:ext cx="8458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quotient of two polynomials is called a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ational express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430280" y="3132000"/>
                <a:ext cx="2455920" cy="12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398920" y="3138480"/>
                <a:ext cx="112896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457200"/>
            <a:ext cx="83055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Rules for Multiplying and Dividing Rational 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217600" y="2071800"/>
                <a:ext cx="468972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if </m:t>
                    </m:r>
                    <m:r>
                      <m:t xml:space="preserve">b</m:t>
                    </m:r>
                    <m:r>
                      <m:t xml:space="preserve">¹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¹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322280" y="3525840"/>
                <a:ext cx="6632640" cy="20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if </m:t>
                    </m:r>
                    <m:r>
                      <m:t xml:space="preserve">b</m:t>
                    </m:r>
                    <m:r>
                      <m:t xml:space="preserve">¹0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¹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¹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558720" y="1701720"/>
            <a:ext cx="7873920" cy="4444920"/>
          </a:xfrm>
          <a:prstGeom prst="rect">
            <a:avLst/>
          </a:prstGeom>
          <a:noFill/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609480"/>
            <a:ext cx="8458200" cy="64116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000000"/>
              </a:gs>
              <a:gs pos="100000">
                <a:srgbClr val="cc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rform the indicated operation and simplif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73120" y="1461960"/>
                <a:ext cx="404640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846520" y="3017880"/>
                <a:ext cx="516564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881440" y="4890960"/>
                <a:ext cx="4357440" cy="120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¹-</m:t>
                    </m:r>
                    <m:r>
                      <m:t xml:space="preserve">1,0,1,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92200" y="592200"/>
                <a:ext cx="2444760" cy="24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214800" y="1100160"/>
                <a:ext cx="415764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521000" y="3386160"/>
                <a:ext cx="67752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⋅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573200" y="4910040"/>
                <a:ext cx="665640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¹-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533520"/>
            <a:ext cx="8534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Rules for Adding and Subtracting Rational Expressions, Denominators Eq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209680" y="2746440"/>
                <a:ext cx="493884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±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±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if </m:t>
                    </m:r>
                    <m:r>
                      <m:t xml:space="preserve">b</m:t>
                    </m:r>
                    <m:r>
                      <m:t xml:space="preserve">¹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635040" y="2463840"/>
            <a:ext cx="7873920" cy="1778040"/>
          </a:xfrm>
          <a:prstGeom prst="rect">
            <a:avLst/>
          </a:prstGeom>
          <a:noFill/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15960" y="615960"/>
            <a:ext cx="8140680" cy="29592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50000">
                <a:srgbClr val="000000"/>
              </a:gs>
              <a:gs pos="100000">
                <a:srgbClr val="cc3300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838080"/>
            <a:ext cx="7620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rform the indicated operation and simplify the resul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179800" y="2243160"/>
                <a:ext cx="476568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31880" y="3767040"/>
                <a:ext cx="476568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523960" y="5000760"/>
                <a:ext cx="544068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457280" y="581040"/>
                <a:ext cx="544032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474920" y="2166840"/>
                <a:ext cx="508932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504800" y="3843360"/>
                <a:ext cx="242748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038480" y="3797280"/>
                <a:ext cx="304812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0880" y="762120"/>
            <a:ext cx="81536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Rules for Adding or Subtracting Two Rational Expressions, Denominators Uneq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347840" y="3214800"/>
                <a:ext cx="619596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±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±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558720" y="2997360"/>
            <a:ext cx="8026560" cy="1701720"/>
          </a:xfrm>
          <a:prstGeom prst="rect">
            <a:avLst/>
          </a:prstGeom>
          <a:noFill/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chael Sullivan</dc:creator>
  <dc:description/>
  <dc:language>en-US</dc:language>
  <cp:lastModifiedBy>Test0</cp:lastModifiedBy>
  <dcterms:modified xsi:type="dcterms:W3CDTF">2002-06-28T15:24:54Z</dcterms:modified>
  <cp:revision>4</cp:revision>
  <dc:subject/>
  <dc:title>No Slide Title</dc:title>
</cp:coreProperties>
</file>