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C04-8C07-4F12-B6A2-CE76AE23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AA6-BE00-4565-A344-6D9C04D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3C2-2394-4F62-B4CD-0BF4FD60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888-6E11-4C9C-B9B7-6D1857D8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E92-45A0-4915-86AE-171D911E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D44-AF76-4357-87C2-3C483F6B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8D4-2ECD-49EE-B04A-C19C6A9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0A0-5585-4DD1-9B40-60930AF1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722-2474-400F-877E-7DDABDA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BE4-3658-4D1A-A9DF-033521C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2FF-D78A-4CBC-A7EA-0F6C026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F98-FD69-423E-8040-DD0762D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E52A-6C99-4ABF-A775-C30EDD54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752480"/>
            <a:ext cx="8991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tional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1040" y="463680"/>
            <a:ext cx="8445600" cy="2120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23238d"/>
              </a:gs>
              <a:gs pos="100000">
                <a:srgbClr val="3333cc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9720" y="592200"/>
                <a:ext cx="82328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form the indicated operation and simplif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520" y="28954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STEP 1:  Find least common mu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68480" y="3571920"/>
                <a:ext cx="5486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44720" y="4408560"/>
                <a:ext cx="5891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95400" y="5595840"/>
                <a:ext cx="56484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: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8960" y="560520"/>
                <a:ext cx="78390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111400"/>
                <a:ext cx="7940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1960" y="3510000"/>
                <a:ext cx="56865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4400" y="5132520"/>
                <a:ext cx="39369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83240" y="5121360"/>
                <a:ext cx="3927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5960" y="387360"/>
            <a:ext cx="7759800" cy="2273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8d0000"/>
              </a:gs>
              <a:gs pos="100000">
                <a:srgbClr val="cc000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70160" y="476280"/>
                <a:ext cx="4118040" cy="20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ify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6960" y="2935440"/>
                <a:ext cx="24512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62240" y="2948040"/>
                <a:ext cx="169380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75200" y="3395520"/>
                <a:ext cx="324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13520" y="5099040"/>
                <a:ext cx="3060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1932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otient of two polynomials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0280" y="3132000"/>
                <a:ext cx="24559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98920" y="3138480"/>
                <a:ext cx="11289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05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Multiplying and Dividing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7600" y="2071800"/>
                <a:ext cx="4689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22280" y="3525840"/>
                <a:ext cx="66326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if </m:t>
                    </m:r>
                    <m:r>
                      <m:t xml:space="preserve">b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¹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58720" y="1701720"/>
            <a:ext cx="7873920" cy="44449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09480"/>
            <a:ext cx="8458200" cy="6411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00000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73120" y="1461960"/>
                <a:ext cx="40464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46520" y="3017880"/>
                <a:ext cx="51656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81440" y="4890960"/>
                <a:ext cx="43574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1,0,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2200" y="592200"/>
                <a:ext cx="24447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14800" y="1100160"/>
                <a:ext cx="41576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1000" y="3386160"/>
                <a:ext cx="67752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73200" y="4910040"/>
                <a:ext cx="66564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¹-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and Subtracting Rational Expressions, Denominators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2746440"/>
                <a:ext cx="4938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if </m:t>
                    </m:r>
                    <m:r>
                      <m:t xml:space="preserve">b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35040" y="2463840"/>
            <a:ext cx="7873920" cy="17780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5960" y="615960"/>
            <a:ext cx="8140680" cy="2959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000000"/>
              </a:gs>
              <a:gs pos="100000">
                <a:srgbClr val="cc33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83808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orm the indicated operation and simplify the res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79800" y="2243160"/>
                <a:ext cx="47656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3767040"/>
                <a:ext cx="4765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23960" y="5000760"/>
                <a:ext cx="5440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57280" y="581040"/>
                <a:ext cx="54403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4920" y="2166840"/>
                <a:ext cx="5089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04800" y="3843360"/>
                <a:ext cx="2427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38480" y="3797280"/>
                <a:ext cx="30481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15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ules for Adding or Subtracting Two Rational Expressions, Denominators Un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47840" y="3214800"/>
                <a:ext cx="61959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58720" y="2997360"/>
            <a:ext cx="8026560" cy="170172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chael Sullivan</dc:creator>
  <dc:description/>
  <dc:language>en-US</dc:language>
  <cp:lastModifiedBy>Test0</cp:lastModifiedBy>
  <dcterms:modified xsi:type="dcterms:W3CDTF">2002-06-28T15:24:54Z</dcterms:modified>
  <cp:revision>4</cp:revision>
  <dc:subject/>
  <dc:title>No Slide Title</dc:title>
</cp:coreProperties>
</file>