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B9EA-4A5B-48AA-AA19-64DDA7330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FCEA-E273-45FF-8AA0-9B1359AB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4B33-4C28-451C-BB52-64CBDB9E3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F73D-A0E5-4793-AAD9-9EF209DB3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8C55-27E4-4940-849B-D8E5C369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B78F-937F-436C-BAF2-C804DD38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9A26-E945-460B-9811-D86BB4D4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5FFE-A35E-4325-8E52-DC867F52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4401-9F39-456F-8589-B7C25123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BA53-9C26-4212-8639-82DD74DB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F04C-22A7-42FC-AC6A-8F3B549B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56CD-CA30-4866-A285-C11E8475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FCA4-3736-4C13-B1F0-CB149DECF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ctive- To differentiate between probability and relative frequency and to solve problems involving bo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44600" y="2089080"/>
            <a:ext cx="82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 woman were to have a baby in 1990, what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bability that it would be a bo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53960" y="3505320"/>
            <a:ext cx="232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4480" y="3230640"/>
            <a:ext cx="41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 of favorable out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81880" y="3763800"/>
            <a:ext cx="393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 of possible out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380988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33120" y="4694400"/>
            <a:ext cx="182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(boy)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86200" y="448164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57160" y="4938840"/>
            <a:ext cx="190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y or gi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50292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623920" y="469440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19440" y="4465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325560" y="5075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24480" y="50292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11800" y="5668920"/>
            <a:ext cx="755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 involves predicting future e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20720" y="4724280"/>
            <a:ext cx="13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50 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75360" y="304920"/>
            <a:ext cx="755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 involves predicting future e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1120" y="990720"/>
            <a:ext cx="85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ve Frequency involves data from past e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400" y="2025720"/>
            <a:ext cx="324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e Frequency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34640" y="1766880"/>
            <a:ext cx="42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 of times an event occur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2286000"/>
            <a:ext cx="48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 of times it could have occur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2286000"/>
            <a:ext cx="4724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3094200"/>
            <a:ext cx="6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86720" y="2909880"/>
            <a:ext cx="34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 of boys born in 19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86000" y="3367080"/>
            <a:ext cx="353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# of births in 19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87440" y="340056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4680" y="313848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0920" y="290988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,129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70920" y="336708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,158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62720" y="340056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7162920" y="3260880"/>
                <a:ext cx="53316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7757280" y="3138480"/>
            <a:ext cx="98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5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54520" y="403848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     51.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858000" y="4175280"/>
                <a:ext cx="53352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811800" y="4724280"/>
            <a:ext cx="744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relative frequency, the prob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having a boy is actually 51.2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24480" y="3962520"/>
            <a:ext cx="2438640" cy="76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80880" y="19836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90, the state of Illinois tested 3840 skunks for rabies, of which 1446 actually had rabies.  What was the relative frequency of skunks with rab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2027160"/>
            <a:ext cx="7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14560" y="181440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5040" y="2316240"/>
            <a:ext cx="31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opportun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39720" y="23623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09520" y="202716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17920" y="182880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44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2362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17920" y="233208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8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09920" y="2087640"/>
            <a:ext cx="109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3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6477120" y="2209680"/>
                <a:ext cx="5331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477120" y="3260880"/>
                <a:ext cx="53316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6093720" y="3124080"/>
            <a:ext cx="208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      37.7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43600" y="3048120"/>
            <a:ext cx="2438280" cy="76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70320" y="198360"/>
            <a:ext cx="764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 hurricane is likely to occur on any day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eek, what is the probability that it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cur on a weeken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2040" y="1951200"/>
            <a:ext cx="26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(hurricane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3440" y="1646280"/>
            <a:ext cx="364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 of days in week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60600" y="2163600"/>
            <a:ext cx="30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 of days in w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39920" y="220968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03360" y="19051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52720" y="164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462440" y="22557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67480" y="22096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4480" y="3154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53840" y="3763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59240" y="3718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952880" y="3565440"/>
                <a:ext cx="53352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5634360" y="3429000"/>
            <a:ext cx="307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286  or  28.6 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86400" y="3276720"/>
            <a:ext cx="335268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82480" y="198360"/>
            <a:ext cx="825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 and relative frequency are alw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essed as fractions ( or decimals ) betw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 and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39960" y="1828800"/>
            <a:ext cx="31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bability-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590920" y="2514600"/>
                <a:ext cx="31114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0 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 P 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1066680" y="330660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981080" y="3048120"/>
            <a:ext cx="60984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327672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rt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638680" y="3048120"/>
            <a:ext cx="60984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48920" y="4068720"/>
            <a:ext cx="415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lative Frequency-p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744640" y="4718160"/>
                <a:ext cx="29703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0 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 r 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606600" y="5486400"/>
            <a:ext cx="261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ver occur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133720" y="5257440"/>
            <a:ext cx="60948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20680" y="545616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occur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5790960" y="5257440"/>
            <a:ext cx="60948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143800" y="76320"/>
            <a:ext cx="44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mplementary Ev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58760" y="763560"/>
            <a:ext cx="679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events are complementary if the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section is the empty set and the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on is the set of all possible outco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8040" y="2911320"/>
            <a:ext cx="810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Hurricane on weekend)       P(Hurricane on weekd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5160" y="2225520"/>
            <a:ext cx="24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mplemen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514240" y="2668680"/>
            <a:ext cx="12193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2668680"/>
            <a:ext cx="11430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905120" y="3430440"/>
                <a:ext cx="3888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638680" y="3430440"/>
                <a:ext cx="39384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3735360" y="35672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68360" y="3567240"/>
            <a:ext cx="13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   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7600" y="4389480"/>
            <a:ext cx="746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m of probabilities for complementary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equals 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92720" y="5334120"/>
            <a:ext cx="577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It will rain)     +      P(It will not ra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58360" y="5805360"/>
            <a:ext cx="616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%            +                70%        =   10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8T16:32:59Z</dcterms:created>
  <dc:creator>James Wenk</dc:creator>
  <dc:description/>
  <dc:language>en-US</dc:language>
  <cp:lastModifiedBy>Test0</cp:lastModifiedBy>
  <dcterms:modified xsi:type="dcterms:W3CDTF">2002-06-27T17:51:38Z</dcterms:modified>
  <cp:revision>6</cp:revision>
  <dc:subject/>
  <dc:title>Objective- To differentiate between probability and relative frequency and to solve problems involving both.</dc:title>
</cp:coreProperties>
</file>