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4B86-E8B0-4025-BC85-7A0AD183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87A4-5B71-4083-BEA5-48E5BA7B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D2B1-EC3C-436C-9E88-59396A7C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5A6A-05CE-486C-A9AA-17460ACB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E288-FE52-4F9A-98C1-438B598E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7749-5A34-47D6-A5F2-041121B5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245A-C464-41B1-9048-0BB2C1B1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06C9-1C8A-46B9-B120-2806ABA6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1353-3221-4710-A60E-32978E37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77D9-2821-4DE8-84E1-A677AEFC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D3F4-2790-4B40-A163-7D018BE2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C3C1-6843-44EB-9468-CF778D0F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CA03-382C-4D85-9164-88BDE032F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ive- To differentiate between probability and relative frequency and to solve problems involving bo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4600" y="208908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woman were to have a baby in 1990, what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ability that it would be a bo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53960" y="350532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4480" y="3230640"/>
            <a:ext cx="41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 of favorable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81880" y="3763800"/>
            <a:ext cx="39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 of possible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380988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33120" y="4694400"/>
            <a:ext cx="182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(boy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448164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57160" y="4938840"/>
            <a:ext cx="190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y or gi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5029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23920" y="469440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19440" y="4465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25560" y="5075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5029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1800" y="5668920"/>
            <a:ext cx="755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involves predicting future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20720" y="4724280"/>
            <a:ext cx="13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50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75360" y="304920"/>
            <a:ext cx="755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involves predicting future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1120" y="990720"/>
            <a:ext cx="85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Frequency involves data from past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400" y="2025720"/>
            <a:ext cx="32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 Frequency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4640" y="1766880"/>
            <a:ext cx="42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 of times an event occur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228600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 of times it could have occur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228600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094200"/>
            <a:ext cx="6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86720" y="2909880"/>
            <a:ext cx="34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 of boys born in 19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86000" y="3367080"/>
            <a:ext cx="353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# of births in 19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87440" y="340056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4680" y="31384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0920" y="290988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,129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70920" y="336708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,158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340056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7162920" y="3260880"/>
                <a:ext cx="53316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7757280" y="313848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4520" y="403848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51.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858000" y="4175280"/>
                <a:ext cx="5335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811800" y="4724280"/>
            <a:ext cx="744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relative frequency, the prob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ving a boy is actually 51.2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3962520"/>
            <a:ext cx="243864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19836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0, the state of Illinois tested 3840 skunks for rabies, of which 1446 actually had rabies.  What was the relative frequency of skunks with rab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2027160"/>
            <a:ext cx="7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14560" y="181440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5040" y="2316240"/>
            <a:ext cx="31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opport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39720" y="23623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09520" y="202716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17920" y="182880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4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2362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17920" y="233208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8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09920" y="208764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3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477120" y="2209680"/>
                <a:ext cx="5331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477120" y="3260880"/>
                <a:ext cx="53316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6093720" y="3124080"/>
            <a:ext cx="20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 37.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3048120"/>
            <a:ext cx="243828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70320" y="198360"/>
            <a:ext cx="764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hurricane is likely to occur on any day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ek, what is the probability that it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 on a weeke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2040" y="1951200"/>
            <a:ext cx="26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(hurricane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3440" y="1646280"/>
            <a:ext cx="364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 of days in week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60600" y="2163600"/>
            <a:ext cx="30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 of days in 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39920" y="22096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03360" y="19051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52720" y="164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62440" y="2255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7480" y="22096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4480" y="3154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53840" y="3763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59240" y="3718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952880" y="3565440"/>
                <a:ext cx="5335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5634360" y="3429000"/>
            <a:ext cx="307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286  or  28.6 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3276720"/>
            <a:ext cx="335268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82480" y="198360"/>
            <a:ext cx="825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and relative frequency are alw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ed as fractions ( or decimals ) betw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 and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39960" y="1828800"/>
            <a:ext cx="31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bability-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590920" y="2514600"/>
                <a:ext cx="31114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P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1066680" y="330660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981080" y="3048120"/>
            <a:ext cx="60984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327672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638680" y="3048120"/>
            <a:ext cx="60984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48920" y="4068720"/>
            <a:ext cx="41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lative Frequency-p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744640" y="4718160"/>
                <a:ext cx="2970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r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606600" y="5486400"/>
            <a:ext cx="261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ver occur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133720" y="5257440"/>
            <a:ext cx="6094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20680" y="545616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occur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5790960" y="5257440"/>
            <a:ext cx="6094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143800" y="76320"/>
            <a:ext cx="44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mplementary Ev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58760" y="763560"/>
            <a:ext cx="67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events are complementary if the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section is the empty set and the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 is the set of all possible outco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8040" y="2911320"/>
            <a:ext cx="81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Hurricane on weekend)       P(Hurricane on weekd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5160" y="222552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mplemen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514240" y="2668680"/>
            <a:ext cx="12193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2668680"/>
            <a:ext cx="11430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905120" y="3430440"/>
                <a:ext cx="388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638680" y="3430440"/>
                <a:ext cx="39384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3735360" y="35672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8360" y="356724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   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7600" y="4389480"/>
            <a:ext cx="746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m of probabilities for complementary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equals 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92720" y="5334120"/>
            <a:ext cx="57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It will rain)     +      P(It will not ra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58360" y="5805360"/>
            <a:ext cx="61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%            +                70%        =   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8T16:32:59Z</dcterms:created>
  <dc:creator>James Wenk</dc:creator>
  <dc:description/>
  <dc:language>en-US</dc:language>
  <cp:lastModifiedBy>Test0</cp:lastModifiedBy>
  <dcterms:modified xsi:type="dcterms:W3CDTF">2002-06-27T17:51:38Z</dcterms:modified>
  <cp:revision>6</cp:revision>
  <dc:subject/>
  <dc:title>Objective- To differentiate between probability and relative frequency and to solve problems involving both.</dc:title>
</cp:coreProperties>
</file>