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DD1-EB00-4153-BCAA-E5B6D2AC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997-C3BD-4A19-8707-B82D2935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4AC-7D30-44B4-BB68-23CE5E25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825-40C3-484E-99AE-9A260C65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CF0-3F67-42C6-BF0F-113FC018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ABA-557F-499F-B338-E50AE68E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F75-4ABF-4528-ADDB-7AC29B33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023-3553-4B86-8268-2E33F60B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29C-5A5D-4A05-9DB2-CC0271A1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AC2-9D06-4D69-A86F-F923D7F8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7C4-654A-492F-96A9-9A40973B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560-B3F3-42D1-9FA8-7AC53C3C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DE34-5D92-45DC-87CD-F87F68C9C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- To differentiate between probability and relative frequency and to solve problems involving bo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4600" y="20890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woman were to have a baby in 1990, what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that it would be a bo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53960" y="350532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4480" y="323064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favora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1880" y="376380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possi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380988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33120" y="4694400"/>
            <a:ext cx="182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(boy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48164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57160" y="4938840"/>
            <a:ext cx="19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 or 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029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23920" y="4694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19440" y="4465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5560" y="5075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5029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1800" y="56689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involves predicting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20720" y="4724280"/>
            <a:ext cx="13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50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5360" y="3049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involves predicting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120" y="990720"/>
            <a:ext cx="85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Frequency involves data from past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400" y="202572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Frequenc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4640" y="17668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times an event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28600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times it could have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094200"/>
            <a:ext cx="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86720" y="2909880"/>
            <a:ext cx="34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boys born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86000" y="3367080"/>
            <a:ext cx="35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# of births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87440" y="340056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4680" y="3138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0920" y="29098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129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0920" y="3367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58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340056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162920" y="3260880"/>
                <a:ext cx="5331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757280" y="313848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4520" y="403848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51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858000" y="4175280"/>
                <a:ext cx="5335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811800" y="4724280"/>
            <a:ext cx="74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elative frequency, the prob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ving a boy is actually 51.2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3962520"/>
            <a:ext cx="243864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9836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, the state of Illinois tested 3840 skunks for rabies, of which 1446 actually had rabies.  What was the relative frequency of skunks with rab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27160"/>
            <a:ext cx="7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14560" y="18144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5040" y="231624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9720" y="23623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09520" y="202716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7920" y="18288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2362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17920" y="233208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8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09920" y="208764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477120" y="2209680"/>
                <a:ext cx="533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477120" y="3260880"/>
                <a:ext cx="5331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093720" y="312408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37.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3048120"/>
            <a:ext cx="24382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70320" y="198360"/>
            <a:ext cx="764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hurricane is likely to occur on any da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ek, what is the probability that it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 on a weeke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2040" y="1951200"/>
            <a:ext cx="26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(hurricane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3440" y="1646280"/>
            <a:ext cx="36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days in week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60600" y="2163600"/>
            <a:ext cx="30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days in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39920" y="22096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03360" y="1905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2720" y="164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2440" y="2255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209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4480" y="3154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3840" y="3763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59240" y="3718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952880" y="3565440"/>
                <a:ext cx="5335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634360" y="3429000"/>
            <a:ext cx="30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286  or  28.6 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3276720"/>
            <a:ext cx="335268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82480" y="198360"/>
            <a:ext cx="825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and relative frequency are al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ed as fractions ( or decimals )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and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39960" y="1828800"/>
            <a:ext cx="31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-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90920" y="2514600"/>
                <a:ext cx="3111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066680" y="33066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81080" y="30481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7672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638680" y="30481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8920" y="406872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lative Frequency-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744640" y="4718160"/>
                <a:ext cx="2970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r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06600" y="548640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525744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0680" y="54561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790960" y="525744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43800" y="76320"/>
            <a:ext cx="44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lementary E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58760" y="763560"/>
            <a:ext cx="67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vents are complementary if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ection is the empty set and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 is the set of all possible outc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8040" y="291132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Hurricane on weekend)       P(Hurricane on week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5160" y="222552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514240" y="2668680"/>
            <a:ext cx="12193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2668680"/>
            <a:ext cx="11430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05120" y="3430440"/>
                <a:ext cx="388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638680" y="3430440"/>
                <a:ext cx="3938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735360" y="3567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8360" y="356724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   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600" y="4389480"/>
            <a:ext cx="746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probabilities for complementar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quals 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92720" y="53341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It will rain)     +      P(It will not r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8360" y="580536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%            +                70%        =  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16:32:59Z</dcterms:created>
  <dc:creator>James Wenk</dc:creator>
  <dc:description/>
  <dc:language>en-US</dc:language>
  <cp:lastModifiedBy>Test0</cp:lastModifiedBy>
  <dcterms:modified xsi:type="dcterms:W3CDTF">2002-06-27T17:51:38Z</dcterms:modified>
  <cp:revision>6</cp:revision>
  <dc:subject/>
  <dc:title>Objective- To differentiate between probability and relative frequency and to solve problems involving both.</dc:title>
</cp:coreProperties>
</file>