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44E-F41F-424C-9672-70BFEA5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B88-38D1-4A0D-82D1-CFCB0EA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34C-979D-47F8-899F-FD89B2C2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E72-3D40-42A6-B238-981A8B8A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CF5-8701-496F-A60E-F8C1BC2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A9D-5F84-4BAF-96F9-EA054C6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B5F-2A6F-45BF-B5B2-465DB0C1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3BF-B201-48D9-AFEE-F4F226B9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2CE-9FEA-4797-BCED-42764B71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7CE-6B0D-4034-B2F6-A8C7295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F69-67C8-4C7A-BE9A-D067065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586-1AB0-4FF2-AF65-2B408B9C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D57E-0163-4062-84B6-741B877B5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- To differentiate between probability and relative frequency and to solve problems involving bo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20890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man were to have a baby in 1990, wha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that it would be a b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53960" y="350532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4480" y="32306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favora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1880" y="376380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809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3120" y="469440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boy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481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7160" y="493884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 or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029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3920" y="469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440" y="446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5560" y="507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1800" y="5668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20720" y="47242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0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5360" y="30492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involves predicting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120" y="99072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Frequency involves data from past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20257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Frequenc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4640" y="17668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an event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28600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times it could hav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94200"/>
            <a:ext cx="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720" y="29098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boys born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86000" y="336708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# of births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7440" y="34005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313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0920" y="29098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129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0920" y="33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5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340056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1629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757280" y="31384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4520" y="403848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51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4175280"/>
                <a:ext cx="533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11800" y="472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elative frequency, the prob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ving a boy is actually 51.2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962520"/>
            <a:ext cx="24386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9836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 the state of Illinois tested 3840 skunks for rabies, of which 1446 actually had rabies.  What was the relative frequency of skunks with rab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2716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4560" y="18144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5040" y="231624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9720" y="2362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09520" y="20271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920" y="18288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17920" y="2332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09920" y="208764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477120" y="2209680"/>
                <a:ext cx="53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7120" y="3260880"/>
                <a:ext cx="5331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093720" y="31240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    37.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0481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0320" y="19836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hurricane is likely to occur on any d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ek, what is the probability that i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 on a week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040" y="1951200"/>
            <a:ext cx="26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(hurrican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3440" y="1646280"/>
            <a:ext cx="36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0600" y="216360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days in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22096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0336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2720" y="164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2440" y="225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448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3840" y="3763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9240" y="371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356544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634360" y="34290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86  or  28.6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276720"/>
            <a:ext cx="33526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82480" y="198360"/>
            <a:ext cx="82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and relative frequency are 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ed as fractions ( or decimals )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9960" y="182880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-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514600"/>
                <a:ext cx="31114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066680" y="33066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810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76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638680" y="30481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8920" y="406872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lative Frequency-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4640" y="4718160"/>
                <a:ext cx="2970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r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6600" y="54864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0680" y="5456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90960" y="525744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800" y="763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E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8760" y="763560"/>
            <a:ext cx="67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vents are complementary if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ection is the empty set and 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is the set of all possible out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8040" y="29113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Hurricane on weekend)       P(Hurricane on week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160" y="222552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14240" y="2668680"/>
            <a:ext cx="1219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668680"/>
            <a:ext cx="11430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5120" y="3430440"/>
                <a:ext cx="38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638680" y="3430440"/>
                <a:ext cx="3938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735360" y="3567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56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600" y="4389480"/>
            <a:ext cx="74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probabilities for complementar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quals 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720" y="53341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It will rain)     +      P(It will not 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8360" y="580536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           +                70%        =  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6:32:59Z</dcterms:created>
  <dc:creator>James Wenk</dc:creator>
  <dc:description/>
  <dc:language>en-US</dc:language>
  <cp:lastModifiedBy>Test0</cp:lastModifiedBy>
  <dcterms:modified xsi:type="dcterms:W3CDTF">2002-06-27T17:51:38Z</dcterms:modified>
  <cp:revision>6</cp:revision>
  <dc:subject/>
  <dc:title>Objective- To differentiate between probability and relative frequency and to solve problems involving both.</dc:title>
</cp:coreProperties>
</file>