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B39-1F2A-4544-B6F5-08A2682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418-1B3A-4F14-B65B-21AC795C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3F6-A09F-4359-995F-221F8DD7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90D-F9C1-48F4-8191-520D0A17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785-86BE-4B50-B69C-DF36B170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E563-0659-4F90-9FB0-F3BE14E1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70A6-F30F-4CCB-B210-2368CA1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F9B-A0AF-45C6-B4FD-57E0044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E95-35C0-4CC0-A6FB-CDCBF23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95C-3FA6-4D2C-BEA4-6930CF8D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F010-4F9C-465D-98C1-A9BB5B8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D4A-ACAD-4B57-8959-6CFDC43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82D-0264-4807-87D9-D4E243D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AA0-2286-42D4-A1F5-1A7B35C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1FD-ECF0-4C86-890B-12D0B75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7A1-C76E-4C2E-B45C-2E4034E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247B-17ED-463D-B852-E34A2EEB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D74-3CDD-4D16-BEB8-3A3A0477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664-3826-4C44-AFF9-CE991FF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6F3-B8D7-4ACB-9A02-E3744607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901-19BF-4EE2-B631-4E255E63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209-4F93-4C8F-B877-FD8CC4C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4DF-8C95-47AF-9C58-6A5DBF9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E8A-7A56-40E3-995D-B815738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F76-9109-4717-A6B9-D501BFF73917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3541-8600-4ECD-9ACE-15BBF1514DFF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Interpreting Graphs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IMS Math Blitz – Spring, 2008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1600200"/>
            <a:ext cx="320040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00200"/>
            <a:ext cx="3581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.5 inches,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.3 inches,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4 and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2 and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523880"/>
            <a:ext cx="33530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great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the lea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incomes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a person works 40 years, what will be the lifetime difference between having no high school diploma and having a bachelor’s degre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523880"/>
            <a:ext cx="33530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ofessional degree ≈ $1,0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ster’s degree ≈ $9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chelor’s degree ≈ $8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≈ $6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stsecondary voc trning ≈ $5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 Sch graduate,no col ≈ $5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 High School diploma ≈ $3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2.   Between which two levels is the difference greate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and Bachelor’s degre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3.   Between which two levels is the difference the lea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, Postsecondary vocational training, and High School graduate, no colleg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4.  What is the range of incomes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7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5.  If a person works 40 years, what will be the lifetime difference between having no high school diploma and having a bachelor’s degree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936,0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029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1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0880" y="41148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1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320" y="4114800"/>
            <a:ext cx="87627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r graph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≈ 1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ve Theatre ≈ 2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≈ 5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seball ≈ 3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wling ≈ 2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ading ≈ 4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wimming ≈ 3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and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and Live Theatre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9436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61722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3244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5530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" y="1828800"/>
            <a:ext cx="365760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larg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small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percentage of the total year’s waste comes from…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, metal &amp;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furniture, cans,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paper, food, and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8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br>
              <a:rPr sz="36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1828800"/>
            <a:ext cx="3657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larg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small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 = 8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Yard waste = 3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od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ass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l = 2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lastic = 1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rniture = 12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 = 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4.        What percentage of the total year’s waste comes from…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, metal &amp;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furniture, cans,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8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paper, food, and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3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total spent on pet item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mean of the 3 amount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more is spent on food than veterinary car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3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total spent on pet item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3.9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mean of the 3 amount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1.3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more is spent on food than veterinary car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6.2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00 million ($0.1 billion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219320"/>
            <a:ext cx="38862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aximum number of registrations don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inimum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pet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an of the number of pets registered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dian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ode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838080"/>
            <a:ext cx="403848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ne graph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 ≈ 1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4 ≈ 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6 ≈ 8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7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aximum number of registrations done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inimum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and 2007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range of pet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6.  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mean of the number of pets registered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7.    What is the median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8.    What is the mode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3:58Z</dcterms:created>
  <dc:creator>Connie Dolezal</dc:creator>
  <dc:description/>
  <cp:keywords/>
  <dc:language>en-US</dc:language>
  <cp:lastModifiedBy>Connie Dolezal</cp:lastModifiedBy>
  <dcterms:modified xsi:type="dcterms:W3CDTF">2008-03-21T01:55:58Z</dcterms:modified>
  <cp:revision>12</cp:revision>
  <dc:subject/>
  <dc:title>Interpreting 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