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232-331A-4E01-A2E9-2215DADE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386-4A35-45C8-9029-C9C0D314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2BC-707A-476B-8E3B-B9884966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DAC-2604-4437-BEF8-93CB78BA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1B9B-C988-461A-969B-58DC2E69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3E11-4233-4AFF-B85B-C3E75818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57BD-19A9-419D-9C30-97723B98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ACDD-BAE4-4193-A4F3-1037F575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44ED-3475-437A-AFCD-5DF57499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BA95-7675-4DD0-B7F4-9B076B6A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7146-0AF6-4BB0-A5CA-E05047C5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CA0-1532-4335-BB80-615D920C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5009-633A-4930-9919-490CB012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4482-5AA0-41B2-B9D9-FA7D2F4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17AD-7B18-482C-AEB9-83C3F12D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2074-7DA7-41A8-A1A3-9279625D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220932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4239360"/>
            <a:ext cx="2625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B786-9EA3-4141-A20F-4E6363FB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85C-28D0-4D1F-B35C-86A8895E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15B-14F9-45D9-9331-414078D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74E-79A9-40EA-81F6-70EF8CF1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1CF-F361-427F-AB13-CDEEB94C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A30-31F5-4DD5-BB72-FE095702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23936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272-1216-4EEF-B6E4-0FB791AE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2209320"/>
            <a:ext cx="3978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360"/>
            <a:ext cx="8153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E3B-8F7E-4203-AA42-6668BC61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9DC1-45F6-4260-A9C3-E7EA3AC7AC8D}" type="slidenum"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5028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65700"/>
                </a:solidFill>
                <a:latin typeface="Arial Black"/>
              </a:rPr>
              <a:t>Click to edit the title text format</a:t>
            </a:r>
            <a:endParaRPr b="0" lang="en-US" sz="41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FBB2-B6B8-4105-B2E1-E36803C490DF}" type="slidenum"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5028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65700"/>
                </a:solidFill>
                <a:latin typeface="Arial Black"/>
              </a:rPr>
              <a:t>Interpreting Graphs</a:t>
            </a:r>
            <a:endParaRPr b="0" lang="en-US" sz="41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7909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IMS Math Blitz – Spring, 2008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5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0800" y="1817640"/>
          <a:ext cx="4437000" cy="37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0800" y="1817640"/>
                    <a:ext cx="4437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371600" y="4876920"/>
            <a:ext cx="3733920" cy="276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002        2003           2004          2005            2006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1600200"/>
            <a:ext cx="320040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aximum rainfall and in what year did it occur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inimum rainfall and in what year did it occur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decrease the mo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increase the mo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5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0800" y="1817640"/>
          <a:ext cx="4437000" cy="37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0800" y="1817640"/>
                    <a:ext cx="4437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371600" y="4876920"/>
            <a:ext cx="3733920" cy="276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002        2003           2004          2005            2006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600200"/>
            <a:ext cx="3581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aximum rainfall and in what year did it occur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1.5 inches, 200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inimum rainfall and in what year did it occur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6.3 inches, 2005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decrease the most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4 and 2005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years did the amount of rainfall increase the most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2 and 200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6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320" y="2133720"/>
          <a:ext cx="563868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5638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257800"/>
            <a:ext cx="1600200" cy="457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523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edian Weekly Income (in dollars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y Educational Level Attained - 2004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523880"/>
            <a:ext cx="335304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weekly amount earned by each level of education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levels is the difference great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etween which two levels is the difference the lea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range of incomes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If a person works 40 years, what will be the lifetime difference between having no high school diploma and having a bachelor’s degre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6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320" y="2133720"/>
          <a:ext cx="563868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5638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600200" y="5257800"/>
            <a:ext cx="1600200" cy="457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523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edian Weekly Income (in dollars)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y Educational Level Attained - 2004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1523880"/>
            <a:ext cx="335304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Estimate the weekly amount earned by each level of education.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ofessional degree ≈ $1,0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ster’s degree ≈ $9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achelor’s degree ≈ $8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 ≈ $6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ostsecondary voc trning ≈ $5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 Sch graduate,no col ≈ $5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o High School diploma ≈ $35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2.   Between which two levels is the difference greatest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 and Bachelor’s degree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3.   Between which two levels is the difference the least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sociate’s degree, Postsecondary vocational training, and High School graduate, no college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4.  What is the range of incomes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$7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a0003"/>
                </a:solidFill>
                <a:latin typeface="Arial"/>
              </a:rPr>
              <a:t>5.  If a person works 40 years, what will be the lifetime difference between having no high school diploma and having a bachelor’s degree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$936,000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029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1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057400" y="838080"/>
          <a:ext cx="56386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838080"/>
                    <a:ext cx="5638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80880" y="41148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type of graph is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number of people participating in each activity. 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two activities are done by the most people per month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two activities are done by the fewest people per month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activity is more popular?  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aseball or bowl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reading or tenni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swimming or bowl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627120" indent="-22536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movies or reading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5700"/>
                </a:solidFill>
                <a:latin typeface="Arial Black"/>
              </a:rPr>
              <a:t>Period 1</a:t>
            </a: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4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838080"/>
          <a:ext cx="56386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838080"/>
                    <a:ext cx="5638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6320" y="4114800"/>
            <a:ext cx="87627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at type of graph is shown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ar graph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Estimate the number of people participating in each activity.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nis ≈ 1,5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ve Theatre ≈ 2,0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vies ≈ 5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aseball ≈ 3,0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owling ≈ 2,50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ading ≈ 4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wimming ≈ 3,000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two activities are done by the most people per month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vies and Read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two activities are done by the fewest people per month?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nnis and Live Theatre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buClr>
                <a:srgbClr val="ba0003"/>
              </a:buClr>
              <a:buFont typeface="Arial"/>
              <a:buAutoNum type="arabicPeriod" startAt="3"/>
              <a:tabLst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activity is more popular? 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a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baseball or bowl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b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reading or tenni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c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swimming or bowl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858960" indent="-457200">
              <a:lnSpc>
                <a:spcPct val="100000"/>
              </a:lnSpc>
              <a:tabLst>
                <a:tab algn="l" pos="0"/>
                <a:tab algn="l" pos="287280"/>
                <a:tab algn="l" pos="46368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d.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movies or reading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594360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617220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632448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6553080"/>
            <a:ext cx="914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2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05280" y="1371600"/>
          <a:ext cx="6138720" cy="47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5280" y="1371600"/>
                    <a:ext cx="613872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" y="1828800"/>
            <a:ext cx="365760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category of waste is the larg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ich category of waste is the smallest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If the total waste for a year is 200 tons, how many tons would be made up of each typ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percentage of the total year’s waste comes from…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glass, metal &amp; plastic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furniture, cans, and metal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paper, food, and plastic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Bef>
                <a:spcPts val="561"/>
              </a:spcBef>
              <a:buClr>
                <a:srgbClr val="ba000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glass and metal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ercentage is by weight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18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2</a:t>
            </a:r>
            <a:br>
              <a:rPr sz="36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800" spc="-1" strike="noStrike">
              <a:solidFill>
                <a:srgbClr val="d657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05280" y="1371600"/>
          <a:ext cx="6138720" cy="47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5280" y="1371600"/>
                    <a:ext cx="613872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28600" y="1828800"/>
            <a:ext cx="36576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category of waste is the largest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per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Which category of waste is the smallest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If the total waste for a year is 200 tons, how many tons would be made up of each type?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per = 80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Yard waste = 3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od = 18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lass = 18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tal = 20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lastic = 1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urniture = 12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ns = 4 tons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4.        What percentage of the total year’s waste comes from…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glass, metal &amp; plastic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6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furniture, cans, and metal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8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paper, food, and plastic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6%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37"/>
              </a:spcBef>
              <a:buClr>
                <a:srgbClr val="ba0003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a0003"/>
                </a:solidFill>
                <a:latin typeface="Arial"/>
              </a:rPr>
              <a:t>glass and metal?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9%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ercentage is by weight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3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36572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What is the total spent on pet items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What is the mean of the 3 amounts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How much more is spent on food than veterinary care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0003"/>
                </a:solidFill>
                <a:latin typeface="Arial"/>
              </a:rPr>
              <a:t>How much less is spent on veterinary care than supplies and medicine?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19720" y="762120"/>
            <a:ext cx="3885840" cy="2818800"/>
            <a:chOff x="4419720" y="762120"/>
            <a:chExt cx="3885840" cy="28188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22497" t="19798" r="51368" b="49195"/>
            <a:stretch/>
          </p:blipFill>
          <p:spPr>
            <a:xfrm>
              <a:off x="4419720" y="762120"/>
              <a:ext cx="38667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565040" y="2812320"/>
              <a:ext cx="740160" cy="25596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19720" y="762120"/>
              <a:ext cx="3885840" cy="281880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5700"/>
                </a:solidFill>
                <a:latin typeface="Arial Black"/>
              </a:rPr>
              <a:t>Period 3</a:t>
            </a:r>
            <a:br>
              <a:rPr sz="32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4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36572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What is the total spent on pet items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3.9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What is the mean of the 3 amounts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1.3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How much more is spent on food than veterinary care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6.2 bill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0003"/>
                </a:solidFill>
                <a:latin typeface="Arial"/>
              </a:rPr>
              <a:t>How much less is spent on veterinary care than supplies and medicine?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00 million ($0.1 billion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419720" y="762120"/>
            <a:ext cx="3885840" cy="2818800"/>
            <a:chOff x="4419720" y="762120"/>
            <a:chExt cx="3885840" cy="281880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rcRect l="22497" t="19798" r="51368" b="49195"/>
            <a:stretch/>
          </p:blipFill>
          <p:spPr>
            <a:xfrm>
              <a:off x="4419720" y="762120"/>
              <a:ext cx="38667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65040" y="2812320"/>
              <a:ext cx="740160" cy="25596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720" y="762120"/>
              <a:ext cx="3885840" cy="281880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4</a:t>
            </a:r>
            <a:endParaRPr b="0" lang="en-US" sz="36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1219320"/>
            <a:ext cx="388620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type of graph is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Estimate the number of pets registered for each year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en was the maximum number of registrations done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en was the minimum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range of pet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ean of the number of pets registered shown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edian of the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25360" indent="-225360">
              <a:spcBef>
                <a:spcPts val="561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0003"/>
                </a:solidFill>
                <a:latin typeface="Arial"/>
              </a:rPr>
              <a:t>What is the mode of the number of pets registered?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1905120"/>
          <a:ext cx="5181840" cy="28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5181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5700"/>
                </a:solidFill>
                <a:latin typeface="Arial Black"/>
              </a:rPr>
              <a:t>Period 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Black"/>
              </a:rPr>
              <a:t>ANSWERS</a:t>
            </a:r>
            <a:endParaRPr b="0" lang="en-US" sz="2800" spc="-1" strike="noStrike">
              <a:solidFill>
                <a:srgbClr val="d657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838080"/>
            <a:ext cx="403848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type of graph is shown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ine graph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a00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Estimate the number of pets registered for each year.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3 ≈ 1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4 ≈ 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5 ≈ 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6 ≈ 8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971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7 ≈ 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en was the maximum number of registrations done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en was the minimum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5 and 2007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is the range of pet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6.  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What is the mean of the number of pets registered shown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7.    What is the median of the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a0003"/>
                </a:solidFill>
                <a:latin typeface="Arial"/>
              </a:rPr>
              <a:t>8.    What is the mode of the number of pets registered?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 pets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1905120"/>
          <a:ext cx="5181840" cy="282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5181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7:43:58Z</dcterms:created>
  <dc:creator>Connie Dolezal</dc:creator>
  <dc:description/>
  <cp:keywords/>
  <dc:language>en-US</dc:language>
  <cp:lastModifiedBy>Connie Dolezal</cp:lastModifiedBy>
  <dcterms:modified xsi:type="dcterms:W3CDTF">2008-03-21T01:55:58Z</dcterms:modified>
  <cp:revision>12</cp:revision>
  <dc:subject/>
  <dc:title>Interpreting Graph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