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FDB-38B2-4E62-96B7-CC58C260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3936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FAC-6FF5-4335-817B-8544159C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B69-02C4-46D1-9AC1-5939BA7C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0B5-8092-4AFD-BD93-0ADBE065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08C1-DD63-4335-9183-BEFEB749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9B85-BBEA-40AE-8676-A936B0AE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80C9-0FAB-47B5-B916-F6F61888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C765-F1A4-4659-A3B3-D4607EA6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5B79-C09C-46A3-B3F2-42646D01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186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C764-0BBF-4182-8D3D-7AA32DB1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77C7-AD82-4360-A0BE-7D51CCCF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180-A6E6-4108-8478-83643058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E70B-4A54-455F-9EC9-FC25D441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7CC2-BA97-484C-B6AD-025B38D0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3936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0A88-B6C4-4443-9269-135C1331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4499-9306-45AF-BAD4-72A4BC6F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A96D-7D70-42F2-8CCE-B5C15915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C62-7D07-46D3-AB9B-1B02DCEA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014-599F-47EB-9823-5885DDBA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900-35ED-4771-9694-3FE67B17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186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9DF-ED0D-4A8F-9E08-15CD62E3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67F-35AA-4D38-AE11-3173800D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740-CC88-436F-8D22-0557B733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437-F0A4-488B-8D88-3833830E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1C54-451D-44E1-8086-4DC016D1C1DD}" type="slidenum"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5028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65700"/>
                </a:solidFill>
                <a:latin typeface="Arial Black"/>
              </a:rPr>
              <a:t>Click to edit the title text format</a:t>
            </a:r>
            <a:endParaRPr b="0" lang="en-US" sz="41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77120"/>
            <a:ext cx="4343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5B95-0C20-4B14-874D-CBFAA5EE7E8B}" type="slidenum"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5028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65700"/>
                </a:solidFill>
                <a:latin typeface="Arial Black"/>
              </a:rPr>
              <a:t>Interpreting Graphs</a:t>
            </a:r>
            <a:endParaRPr b="0" lang="en-US" sz="41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57909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IMS Math Blitz – Spring, 2008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5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20800" y="1817640"/>
          <a:ext cx="4437000" cy="3774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0800" y="1817640"/>
                    <a:ext cx="443700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371600" y="4876920"/>
            <a:ext cx="3733920" cy="2764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2002        2003           2004          2005            2006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1600200"/>
            <a:ext cx="320040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aximum rainfall and in what year did it occur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inimum rainfall and in what year did it occur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years did the amount of rainfall decrease the mo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years did the amount of rainfall increase the mo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5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0800" y="1817640"/>
          <a:ext cx="4437000" cy="3774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0800" y="1817640"/>
                    <a:ext cx="443700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371600" y="4876920"/>
            <a:ext cx="3733920" cy="2764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2002        2003           2004          2005            2006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1600200"/>
            <a:ext cx="35816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aximum rainfall and in what year did it occur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1.5 inches, 2003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inimum rainfall and in what year did it occur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6.3 inches, 2005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years did the amount of rainfall decrease the most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4 and 2005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years did the amount of rainfall increase the most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2 and 2003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6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320" y="2133720"/>
          <a:ext cx="5638680" cy="36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133720"/>
                    <a:ext cx="5638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600200" y="5257800"/>
            <a:ext cx="1600200" cy="457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523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Median Weekly Income (in dollars)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by Educational Level Attained - 2004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1523880"/>
            <a:ext cx="335304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Estimate the weekly amount earned by each level of education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levels is the difference greate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levels is the difference the lea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range of incomes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If a person works 40 years, what will be the lifetime difference between having no high school diploma and having a bachelor’s degree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6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320" y="2133720"/>
          <a:ext cx="5638680" cy="36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133720"/>
                    <a:ext cx="5638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600200" y="5257800"/>
            <a:ext cx="1600200" cy="457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523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Median Weekly Income (in dollars)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by Educational Level Attained - 2004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1523880"/>
            <a:ext cx="335304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Estimate the weekly amount earned by each level of education.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ofessional degree ≈ $1,05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ster’s degree ≈ $95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achelor’s degree ≈ $8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ssociate’s degree ≈ $6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ostsecondary voc trning ≈ $55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igh Sch graduate,no col ≈ $5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o High School diploma ≈ $35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2.   Between which two levels is the difference greatest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ssociate’s degree and Bachelor’s degree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3.   Between which two levels is the difference the least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ssociate’s degree, Postsecondary vocational training, and High School graduate, no college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4.  What is the range of incomes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$7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5.  If a person works 40 years, what will be the lifetime difference between having no high school diploma and having a bachelor’s degree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$936,0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029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1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057400" y="838080"/>
          <a:ext cx="563868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838080"/>
                    <a:ext cx="56386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80880" y="41148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type of graph is shown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Estimate the number of people participating in each activity. 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two activities are done by the most people per month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two activities are done by the fewest people per month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activity is more popular?  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aseball or bowling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reading or tennis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swimming or bowling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movies or reading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5700"/>
                </a:solidFill>
                <a:latin typeface="Arial Black"/>
              </a:rPr>
              <a:t>Period 1</a:t>
            </a:r>
            <a:br>
              <a:rPr sz="32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24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7400" y="838080"/>
          <a:ext cx="563868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838080"/>
                    <a:ext cx="56386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76320" y="4114800"/>
            <a:ext cx="876276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at type of graph is shown?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ar graph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Estimate the number of people participating in each activity.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nnis ≈ 1,50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ve Theatre ≈ 2,00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ovies ≈ 5,000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aseball ≈ 3,00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owling ≈ 2,50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eading ≈ 4,000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wimming ≈ 3,000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 startAt="3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two activities are done by the most people per month?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ovies and Reading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 startAt="3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two activities are done by the fewest people per month?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nnis and Live Theatre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 startAt="3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activity is more popular? 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a.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baseball or bowling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b.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reading or tenni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c.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swimming or bowling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d.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movies or reading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5943600"/>
            <a:ext cx="91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6172200"/>
            <a:ext cx="91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6324480"/>
            <a:ext cx="91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6553080"/>
            <a:ext cx="91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2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05280" y="1371600"/>
          <a:ext cx="6138720" cy="473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5280" y="1371600"/>
                    <a:ext cx="613872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28600" y="1828800"/>
            <a:ext cx="365760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category of waste is the large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category of waste is the smalle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If the total waste for a year is 200 tons, how many tons would be made up of each type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percentage of the total year’s waste comes from…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561"/>
              </a:spcBef>
              <a:buClr>
                <a:srgbClr val="ba000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glass, metal &amp; plastic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561"/>
              </a:spcBef>
              <a:buClr>
                <a:srgbClr val="ba000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furniture, cans, and metal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561"/>
              </a:spcBef>
              <a:buClr>
                <a:srgbClr val="ba000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paper, food, and plastic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561"/>
              </a:spcBef>
              <a:buClr>
                <a:srgbClr val="ba000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glass and metal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6019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ercentage is by weight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18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2</a:t>
            </a:r>
            <a:br>
              <a:rPr sz="36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28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05280" y="1371600"/>
          <a:ext cx="6138720" cy="473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5280" y="1371600"/>
                    <a:ext cx="613872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28600" y="1828800"/>
            <a:ext cx="365760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37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category of waste is the largest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aper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category of waste is the smallest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If the total waste for a year is 200 tons, how many tons would be made up of each type?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aper = 80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Yard waste = 34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ood = 18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lass = 18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etal = 20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lastic = 14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urniture = 12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ns = 4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4.        What percentage of the total year’s waste comes from…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37"/>
              </a:spcBef>
              <a:buClr>
                <a:srgbClr val="ba0003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glass, metal &amp; plastic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6%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37"/>
              </a:spcBef>
              <a:buClr>
                <a:srgbClr val="ba0003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furniture, cans, and metal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8%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37"/>
              </a:spcBef>
              <a:buClr>
                <a:srgbClr val="ba0003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paper, food, and plastic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6%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37"/>
              </a:spcBef>
              <a:buClr>
                <a:srgbClr val="ba0003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glass and metal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9%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6019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ercentage is by weight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3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365724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0003"/>
                </a:solidFill>
                <a:latin typeface="Arial"/>
              </a:rPr>
              <a:t>What is the total spent on pet items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0003"/>
                </a:solidFill>
                <a:latin typeface="Arial"/>
              </a:rPr>
              <a:t>What is the mean of the 3 amounts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0003"/>
                </a:solidFill>
                <a:latin typeface="Arial"/>
              </a:rPr>
              <a:t>How much more is spent on food than veterinary care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0003"/>
                </a:solidFill>
                <a:latin typeface="Arial"/>
              </a:rPr>
              <a:t>How much less is spent on veterinary care than supplies and medicine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419720" y="762120"/>
            <a:ext cx="3885840" cy="2818800"/>
            <a:chOff x="4419720" y="762120"/>
            <a:chExt cx="3885840" cy="28188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rcRect l="22497" t="19798" r="51368" b="49195"/>
            <a:stretch/>
          </p:blipFill>
          <p:spPr>
            <a:xfrm>
              <a:off x="4419720" y="762120"/>
              <a:ext cx="3866760" cy="26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565040" y="2812320"/>
              <a:ext cx="740160" cy="255960"/>
            </a:xfrm>
            <a:prstGeom prst="rect">
              <a:avLst/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19720" y="762120"/>
              <a:ext cx="3885840" cy="281880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5700"/>
                </a:solidFill>
                <a:latin typeface="Arial Black"/>
              </a:rPr>
              <a:t>Period 3</a:t>
            </a:r>
            <a:br>
              <a:rPr sz="32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24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365724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3"/>
                </a:solidFill>
                <a:latin typeface="Arial"/>
              </a:rPr>
              <a:t>What is the total spent on pet items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33.9 billion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3"/>
                </a:solidFill>
                <a:latin typeface="Arial"/>
              </a:rPr>
              <a:t>What is the mean of the 3 amounts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11.3 billion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3"/>
                </a:solidFill>
                <a:latin typeface="Arial"/>
              </a:rPr>
              <a:t>How much more is spent on food than veterinary care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6.2 billion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3"/>
                </a:solidFill>
                <a:latin typeface="Arial"/>
              </a:rPr>
              <a:t>How much less is spent on veterinary care than supplies and medicine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100 million ($0.1 billion)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419720" y="762120"/>
            <a:ext cx="3885840" cy="2818800"/>
            <a:chOff x="4419720" y="762120"/>
            <a:chExt cx="3885840" cy="281880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rcRect l="22497" t="19798" r="51368" b="49195"/>
            <a:stretch/>
          </p:blipFill>
          <p:spPr>
            <a:xfrm>
              <a:off x="4419720" y="762120"/>
              <a:ext cx="3866760" cy="26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565040" y="2812320"/>
              <a:ext cx="740160" cy="255960"/>
            </a:xfrm>
            <a:prstGeom prst="rect">
              <a:avLst/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9720" y="762120"/>
              <a:ext cx="3885840" cy="281880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4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1219320"/>
            <a:ext cx="3886200" cy="47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type of graph is shown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Estimate the number of pets registered for each year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en was the maximum number of registrations done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en was the minimum number of pets registered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range of pet registered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ean of the number of pets registered shown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edian of the number of pets registered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ode of the number of pets registered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1905120"/>
          <a:ext cx="5181840" cy="282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905120"/>
                    <a:ext cx="5181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4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28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838080"/>
            <a:ext cx="403848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at type of graph is shown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ine graph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Estimate the number of pets registered for each year.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3 ≈ 12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4 ≈ 6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5 ≈ 2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6 ≈ 8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7 ≈ 2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en was the maximum number of registrations done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en was the minimum number of pets registered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5 and 2007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at is the range of pet registered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6.  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at is the mean of the number of pets registered shown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7.    What is the median of the number of pets registered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8.    What is the mode of the number of pets registered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280" y="1905120"/>
          <a:ext cx="5181840" cy="282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905120"/>
                    <a:ext cx="5181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7:43:58Z</dcterms:created>
  <dc:creator>Connie Dolezal</dc:creator>
  <dc:description/>
  <cp:keywords/>
  <dc:language>en-US</dc:language>
  <cp:lastModifiedBy>Connie Dolezal</cp:lastModifiedBy>
  <dcterms:modified xsi:type="dcterms:W3CDTF">2008-03-21T01:55:58Z</dcterms:modified>
  <cp:revision>12</cp:revision>
  <dc:subject/>
  <dc:title>Interpreting Graph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91033</vt:lpwstr>
  </property>
</Properties>
</file>