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F96-7D4A-4B45-BE17-20F3C4E1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3DF-D348-4145-84D5-F15B4CA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90D-E655-4430-994C-D8EB304D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242-FC30-4CE1-AB04-4D63D59E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477A-378A-4ECC-B9CA-FB3020F0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6D5E-BB99-4B85-B3F5-21711FA8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125D-B78C-4EB6-984C-3610877D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A37B-1374-4BF8-99BC-70875031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C85B-881E-4124-A6C0-56D7875D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B5F7-F5D4-4E4B-8BB9-507BBCC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8DCE-72E7-464C-BD7F-FA1189E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D0E-43CB-4631-903C-D984E8DB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309-9FD4-413C-B996-4CF9F72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1537-BC5B-4141-83A6-68FF512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2456-AD22-48D7-B633-99489576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91AE-C314-41DA-B17E-93AD3713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D7BC-C980-4E98-A2C5-42855B6F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B60-C68D-4E22-81EC-DDBDEC8D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2BB-B328-475B-9E4D-984B2568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5A8-E5ED-4DCB-84C2-55662E4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4CD-F4F5-4040-A91F-0EA4B7B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7C2-4C54-4456-B5A0-C4DC06F2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FF5-79F3-4470-A0AE-A325A27A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F8A-26D3-4B36-B181-2F911674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9A99-8D2D-46A0-A915-0D4C8A11FB96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605F-64C6-4743-9BE8-DCAA24CF18FD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Interpreting Graphs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IMS Math Blitz – Spring, 2008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1600200"/>
            <a:ext cx="320040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00200"/>
            <a:ext cx="3581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1.5 inches,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6.3 inches,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4 and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2 and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523880"/>
            <a:ext cx="33530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great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the lea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incomes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a person works 40 years, what will be the lifetime difference between having no high school diploma and having a bachelor’s degre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1523880"/>
            <a:ext cx="335304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ofessional degree ≈ $1,0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ster’s degree ≈ $9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achelor’s degree ≈ $8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≈ $6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ostsecondary voc trning ≈ $5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 Sch graduate,no col ≈ $5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o High School diploma ≈ $3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2.   Between which two levels is the difference greate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and Bachelor’s degre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3.   Between which two levels is the difference the lea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, Postsecondary vocational training, and High School graduate, no colleg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4.  What is the range of incomes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7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5.  If a person works 40 years, what will be the lifetime difference between having no high school diploma and having a bachelor’s degree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936,0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029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1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80880" y="41148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1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320" y="4114800"/>
            <a:ext cx="87627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r graph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≈ 1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ve Theatre ≈ 2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≈ 5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seball ≈ 3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wling ≈ 2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ading ≈ 4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wimming ≈ 3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and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and Live Theatre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59436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61722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63244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5530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" y="1828800"/>
            <a:ext cx="365760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larg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small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percentage of the total year’s waste comes from…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, metal &amp;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furniture, cans,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paper, food, and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8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br>
              <a:rPr sz="36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28600" y="1828800"/>
            <a:ext cx="36576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larg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small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 = 8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Yard waste = 3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od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ass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tal = 2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lastic = 1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rniture = 12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 = 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4.        What percentage of the total year’s waste comes from…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, metal &amp;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furniture, cans,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8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paper, food, and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3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total spent on pet item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mean of the 3 amount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more is spent on food than veterinary car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3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total spent on pet item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3.9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mean of the 3 amount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1.3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more is spent on food than veterinary car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6.2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00 million ($0.1 billion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219320"/>
            <a:ext cx="388620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aximum number of registrations don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inimum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pet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an of the number of pets registered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dian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ode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838080"/>
            <a:ext cx="403848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ine graph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 ≈ 1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4 ≈ 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6 ≈ 8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7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aximum number of registrations done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inimum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and 2007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range of pet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6.  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mean of the number of pets registered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7.    What is the median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8.    What is the mode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43:58Z</dcterms:created>
  <dc:creator>Connie Dolezal</dc:creator>
  <dc:description/>
  <cp:keywords/>
  <dc:language>en-US</dc:language>
  <cp:lastModifiedBy>Connie Dolezal</cp:lastModifiedBy>
  <dcterms:modified xsi:type="dcterms:W3CDTF">2008-03-21T01:55:58Z</dcterms:modified>
  <cp:revision>12</cp:revision>
  <dc:subject/>
  <dc:title>Interpreting Grap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