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B6E8-8E11-4CD8-8D6F-59ECDEA57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DEC9-2988-415D-BBE2-9DC5E695F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8C92-F1F8-451A-A036-B4315B705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DE28-2069-4332-8D2E-58FFE55F0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BE688-4F97-42AB-ABE7-1061F2BA9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84BB6-80A4-4C52-89F8-95656BE86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7C521-C0ED-4853-9DAB-8B7016DB0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9E0D7-A9AE-45AA-B86A-E8BE0D256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B37D4-EDCF-46AE-9704-A4B3B479C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99BB9-7513-4ACA-8700-2D7AE9711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4FA08-6E02-4384-BD6B-02649F3B4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AFAB-2CC1-49BE-9950-6367B6FC1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F5367-AC9C-4D6C-A745-0409936C1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31AD2-AA57-4CC0-B1C6-8F0D0ECB8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2346A-E208-4753-B1E2-A2FF3C30E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CD231-CC9E-4414-AE37-C50EF27A5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F6BE4-5239-4F91-84BD-EE44A7410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0B37-0040-48FF-BBE8-571052341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191A-9435-4F4A-8E1B-D288BD373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518D-9551-4057-87CF-0E1E639B4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2E27-3094-4D32-B728-2C5B66889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AE69-C496-4E88-8014-FA9B3F493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DE5C-ED43-4654-8582-F158F3C78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AE14-42BB-4B49-96D7-BA4D05714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6CDDF-94D2-4CAF-B423-62A0EB59AE1F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4D3B4-73FA-4FCC-8192-6E214CEDFAE0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Century Gothic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Century Gothic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Graphs II</a:t>
            </a: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79080" y="2819160"/>
            <a:ext cx="52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IMS Math Review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pring, 2008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Period 5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79080" y="1371600"/>
            <a:ext cx="72550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irst quarter sales were greatest each year except for what year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Predict the sales for 2008 Quarter 2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When did iPod sales reach a maximum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What and when was the minimum sales in 2006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219320" y="3429000"/>
            <a:ext cx="552456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Period 5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Century Gothic"/>
              </a:rPr>
              <a:t>ANSWER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79080" y="1371600"/>
            <a:ext cx="72550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rst quarter sales were greatest each year except for what year? </a:t>
            </a:r>
            <a:r>
              <a:rPr b="0" lang="en-US" sz="1800" spc="-1" strike="noStrike">
                <a:solidFill>
                  <a:srgbClr val="ff0000"/>
                </a:solidFill>
                <a:latin typeface="Century Gothic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Predict the sales for 2008 Quarter 2. </a:t>
            </a:r>
            <a:r>
              <a:rPr b="0" lang="en-US" sz="1800" spc="-1" strike="noStrike">
                <a:solidFill>
                  <a:srgbClr val="ff0000"/>
                </a:solidFill>
                <a:latin typeface="Century Gothic"/>
              </a:rPr>
              <a:t>13,168 (answers will vary)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When did iPod sales reach a maximum? </a:t>
            </a:r>
            <a:r>
              <a:rPr b="0" lang="en-US" sz="1800" spc="-1" strike="noStrike">
                <a:solidFill>
                  <a:srgbClr val="ff0000"/>
                </a:solidFill>
                <a:latin typeface="Century Gothic"/>
              </a:rPr>
              <a:t>2008 Quarter 1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What and when was the minimum sales in 2006? </a:t>
            </a:r>
            <a:r>
              <a:rPr b="0" lang="en-US" sz="1800" spc="-1" strike="noStrike">
                <a:solidFill>
                  <a:srgbClr val="ff0000"/>
                </a:solidFill>
                <a:latin typeface="Century Gothic"/>
              </a:rPr>
              <a:t>8,111, 000 - Quarter 3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219320" y="3429000"/>
            <a:ext cx="552456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Period 6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79080" y="3809880"/>
            <a:ext cx="52578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In July, 2006, how many more people visited MySpace than YouTube?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In July, 2005, how many fewer people visited YouTube than MySpace?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Predict the number of visitors to MySpace for January, 2008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Predict the number of visitors to YouTube for July, 2008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276720" y="700200"/>
            <a:ext cx="5362560" cy="29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Period 6</a:t>
            </a:r>
            <a:br>
              <a:rPr sz="3200"/>
            </a:br>
            <a:r>
              <a:rPr b="0" lang="en-US" sz="3200" spc="-1" strike="noStrike" u="sng">
                <a:solidFill>
                  <a:srgbClr val="ff0000"/>
                </a:solidFill>
                <a:uFillTx/>
                <a:latin typeface="Century Gothic"/>
              </a:rPr>
              <a:t>ANSWER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79080" y="3809880"/>
            <a:ext cx="52578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In July, 2006, how many more people visited MySpace than YouTube? </a:t>
            </a:r>
            <a:r>
              <a:rPr b="0" lang="en-US" sz="1600" spc="-1" strike="noStrike">
                <a:solidFill>
                  <a:srgbClr val="ff0000"/>
                </a:solidFill>
                <a:latin typeface="Century Gothic"/>
              </a:rPr>
              <a:t>approx. 37,000,000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In July, 2005, how many fewer people visited YouTube than MySpace? </a:t>
            </a:r>
            <a:r>
              <a:rPr b="0" lang="en-US" sz="1600" spc="-1" strike="noStrike">
                <a:solidFill>
                  <a:srgbClr val="ff0000"/>
                </a:solidFill>
                <a:latin typeface="Century Gothic"/>
              </a:rPr>
              <a:t>approx. 20,000,000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Predict the number of visitors to MySpace for January, 2008. </a:t>
            </a:r>
            <a:r>
              <a:rPr b="0" lang="en-US" sz="1600" spc="-1" strike="noStrike">
                <a:solidFill>
                  <a:srgbClr val="ff0000"/>
                </a:solidFill>
                <a:latin typeface="Century Gothic"/>
              </a:rPr>
              <a:t>90,000,000 (answers will vary)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Predict the number of visitors to YouTube for July, 2008. </a:t>
            </a:r>
            <a:r>
              <a:rPr b="0" lang="en-US" sz="1600" spc="-1" strike="noStrike">
                <a:solidFill>
                  <a:srgbClr val="ff0000"/>
                </a:solidFill>
                <a:latin typeface="Century Gothic"/>
              </a:rPr>
              <a:t>82,000,000 (answers will vary)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3276720" y="700200"/>
            <a:ext cx="5362560" cy="29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Period 1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3627360"/>
            <a:ext cx="579132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What is the increase in the vehicle selling price from 1996 to 2006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What is the average increase per year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What was the average cost in 2003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What would be the project cost in 2010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What will be the expected cost of a vehicle in 2016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1295280" y="609480"/>
            <a:ext cx="3657240" cy="2819160"/>
            <a:chOff x="1295280" y="609480"/>
            <a:chExt cx="3657240" cy="2819160"/>
          </a:xfrm>
        </p:grpSpPr>
        <p:pic>
          <p:nvPicPr>
            <p:cNvPr id="87" name="" descr=""/>
            <p:cNvPicPr/>
            <p:nvPr/>
          </p:nvPicPr>
          <p:blipFill>
            <a:blip r:embed="rId2"/>
            <a:srcRect l="23247" t="38396" r="51368" b="31197"/>
            <a:stretch/>
          </p:blipFill>
          <p:spPr>
            <a:xfrm>
              <a:off x="1313640" y="609480"/>
              <a:ext cx="3620160" cy="279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4238640" y="3060000"/>
              <a:ext cx="713880" cy="27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295280" y="941400"/>
              <a:ext cx="3657240" cy="248724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1024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Period 1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entury Gothic"/>
              </a:rPr>
              <a:t>ANSWER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3627360"/>
            <a:ext cx="579132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What is the increase in the vehicle selling price from 1996 to 2006? </a:t>
            </a:r>
            <a:r>
              <a:rPr b="0" lang="en-US" sz="1800" spc="-1" strike="noStrike">
                <a:solidFill>
                  <a:srgbClr val="ff0000"/>
                </a:solidFill>
                <a:latin typeface="Century Gothic"/>
              </a:rPr>
              <a:t>$6,550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What is the average increase per year? </a:t>
            </a:r>
            <a:r>
              <a:rPr b="0" lang="en-US" sz="1800" spc="-1" strike="noStrike">
                <a:solidFill>
                  <a:srgbClr val="ff0000"/>
                </a:solidFill>
                <a:latin typeface="Century Gothic"/>
              </a:rPr>
              <a:t>$655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What was the average cost in 2003? </a:t>
            </a:r>
            <a:r>
              <a:rPr b="0" lang="en-US" sz="1800" spc="-1" strike="noStrike">
                <a:solidFill>
                  <a:srgbClr val="ff0000"/>
                </a:solidFill>
                <a:latin typeface="Century Gothic"/>
              </a:rPr>
              <a:t>$26,485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What would be the project cost in 2010? </a:t>
            </a:r>
            <a:r>
              <a:rPr b="0" lang="en-US" sz="1800" spc="-1" strike="noStrike">
                <a:solidFill>
                  <a:srgbClr val="ff0000"/>
                </a:solidFill>
                <a:latin typeface="Century Gothic"/>
              </a:rPr>
              <a:t>$31,070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What will be the expected cost of a vehicle in 2016? </a:t>
            </a:r>
            <a:r>
              <a:rPr b="0" lang="en-US" sz="1800" spc="-1" strike="noStrike">
                <a:solidFill>
                  <a:srgbClr val="ff0000"/>
                </a:solidFill>
                <a:latin typeface="Century Gothic"/>
              </a:rPr>
              <a:t>$35,000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295280" y="609480"/>
            <a:ext cx="3657240" cy="2819160"/>
            <a:chOff x="1295280" y="609480"/>
            <a:chExt cx="3657240" cy="2819160"/>
          </a:xfrm>
        </p:grpSpPr>
        <p:pic>
          <p:nvPicPr>
            <p:cNvPr id="93" name="" descr=""/>
            <p:cNvPicPr/>
            <p:nvPr/>
          </p:nvPicPr>
          <p:blipFill>
            <a:blip r:embed="rId2"/>
            <a:srcRect l="23247" t="38396" r="51368" b="31197"/>
            <a:stretch/>
          </p:blipFill>
          <p:spPr>
            <a:xfrm>
              <a:off x="1313640" y="609480"/>
              <a:ext cx="3620160" cy="279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4238640" y="3060000"/>
              <a:ext cx="713880" cy="27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295280" y="941400"/>
              <a:ext cx="3657240" cy="248724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Period 2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79080" y="3733560"/>
            <a:ext cx="525780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What is the major source of revenue for theaters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If a theater generates $100,000 in a month, what amount will be from each category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If a theater generates $800,000 in a year, what amount will be from each category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143000" y="685800"/>
            <a:ext cx="4038120" cy="2971080"/>
            <a:chOff x="1143000" y="685800"/>
            <a:chExt cx="4038120" cy="2971080"/>
          </a:xfrm>
        </p:grpSpPr>
        <p:pic>
          <p:nvPicPr>
            <p:cNvPr id="99" name="" descr=""/>
            <p:cNvPicPr/>
            <p:nvPr/>
          </p:nvPicPr>
          <p:blipFill>
            <a:blip r:embed="rId2"/>
            <a:srcRect l="22497" t="40796" r="51368" b="31197"/>
            <a:stretch/>
          </p:blipFill>
          <p:spPr>
            <a:xfrm>
              <a:off x="1232640" y="685800"/>
              <a:ext cx="3839760" cy="285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4447080" y="3148560"/>
              <a:ext cx="6426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143000" y="706680"/>
              <a:ext cx="4038120" cy="295020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Period 2 </a:t>
            </a:r>
            <a:br>
              <a:rPr sz="3600"/>
            </a:br>
            <a:r>
              <a:rPr b="0" lang="en-US" sz="3600" spc="-1" strike="noStrike" u="sng">
                <a:solidFill>
                  <a:srgbClr val="ff0000"/>
                </a:solidFill>
                <a:uFillTx/>
                <a:latin typeface="Century Gothic"/>
              </a:rPr>
              <a:t>ANSWER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79080" y="3733560"/>
            <a:ext cx="525780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What is the major source of revenue for theaters? </a:t>
            </a:r>
            <a:r>
              <a:rPr b="0" lang="en-US" sz="1600" spc="-1" strike="noStrike">
                <a:solidFill>
                  <a:srgbClr val="ff0000"/>
                </a:solidFill>
                <a:latin typeface="Century Gothic"/>
              </a:rPr>
              <a:t>Ticket sales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If a theater generates $100,000 in a month, what amount will be from each category? </a:t>
            </a:r>
            <a:r>
              <a:rPr b="0" lang="en-US" sz="1600" spc="-1" strike="noStrike">
                <a:solidFill>
                  <a:srgbClr val="ff0000"/>
                </a:solidFill>
                <a:latin typeface="Century Gothic"/>
              </a:rPr>
              <a:t>Ticket sales = $66,000,  Food = $29,000,  Other = $5,000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If a theater generates $800,000 in a year, what amount will be from each category? </a:t>
            </a:r>
            <a:r>
              <a:rPr b="0" lang="en-US" sz="1600" spc="-1" strike="noStrike">
                <a:solidFill>
                  <a:srgbClr val="ff0000"/>
                </a:solidFill>
                <a:latin typeface="Century Gothic"/>
              </a:rPr>
              <a:t>Ticket sales = $528,000, Food = $232,000,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91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entury Gothic"/>
              </a:rPr>
              <a:t>Other = $40,000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lvl="1" marL="91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143000" y="685800"/>
            <a:ext cx="4038120" cy="2971080"/>
            <a:chOff x="1143000" y="685800"/>
            <a:chExt cx="4038120" cy="2971080"/>
          </a:xfrm>
        </p:grpSpPr>
        <p:pic>
          <p:nvPicPr>
            <p:cNvPr id="105" name="" descr=""/>
            <p:cNvPicPr/>
            <p:nvPr/>
          </p:nvPicPr>
          <p:blipFill>
            <a:blip r:embed="rId2"/>
            <a:srcRect l="22497" t="40796" r="51368" b="31197"/>
            <a:stretch/>
          </p:blipFill>
          <p:spPr>
            <a:xfrm>
              <a:off x="1232640" y="685800"/>
              <a:ext cx="3839760" cy="285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4447080" y="3148560"/>
              <a:ext cx="6426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143000" y="706680"/>
              <a:ext cx="4038120" cy="295020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914400" y="3048120"/>
            <a:ext cx="5943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-44316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What is the difference in price for an adult rail pass and a child pass for 4 countries over 6 days? 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443160" indent="-44316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What is the difference in price for an adult rail pass for 3 countries over 5 days versus an adult pass for 5 countries over 15 days?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443160" indent="-44316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What is the average cost per day for an adult pass that can travel between 5 countries in 8 days?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443160" indent="-44316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What is the minimum cost for an adult ticket?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443160" indent="-44316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What is the maximum cost for a child ticket?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976320" y="609480"/>
            <a:ext cx="5896080" cy="2210040"/>
            <a:chOff x="976320" y="609480"/>
            <a:chExt cx="5896080" cy="2210040"/>
          </a:xfrm>
        </p:grpSpPr>
        <p:pic>
          <p:nvPicPr>
            <p:cNvPr id="110" name="" descr=""/>
            <p:cNvPicPr/>
            <p:nvPr/>
          </p:nvPicPr>
          <p:blipFill>
            <a:blip r:embed="rId2"/>
            <a:srcRect l="11998" t="17998" r="39745" b="77991"/>
            <a:stretch/>
          </p:blipFill>
          <p:spPr>
            <a:xfrm>
              <a:off x="990720" y="609480"/>
              <a:ext cx="5881680" cy="30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3"/>
            <a:srcRect l="11998" t="47995" r="39745" b="26997"/>
            <a:stretch/>
          </p:blipFill>
          <p:spPr>
            <a:xfrm>
              <a:off x="976320" y="914400"/>
              <a:ext cx="5881680" cy="1905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167616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Period 3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3124080" y="60948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 U L T           C H I L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27680" y="622440"/>
            <a:ext cx="1440" cy="2197080"/>
          </a:xfrm>
          <a:custGeom>
            <a:avLst/>
            <a:gdLst/>
            <a:ahLst/>
            <a:rect l="l" t="t" r="r" b="b"/>
            <a:pathLst>
              <a:path w="1" h="1384">
                <a:moveTo>
                  <a:pt x="0" y="0"/>
                </a:moveTo>
                <a:lnTo>
                  <a:pt x="0" y="138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914400" y="3048120"/>
            <a:ext cx="5943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What is the difference in price for an adult rail pass and a child pass for 4 countries over 6 days? </a:t>
            </a:r>
            <a:r>
              <a:rPr b="0" lang="en-US" sz="1600" spc="-1" strike="noStrike">
                <a:solidFill>
                  <a:srgbClr val="ff0000"/>
                </a:solidFill>
                <a:latin typeface="Century Gothic"/>
              </a:rPr>
              <a:t>$288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What is the difference in price for an adult rail pass for 3 countries over 5 days versus an adult pass for 5 countries over 15 days? </a:t>
            </a:r>
            <a:r>
              <a:rPr b="0" lang="en-US" sz="1600" spc="-1" strike="noStrike">
                <a:solidFill>
                  <a:srgbClr val="ff0000"/>
                </a:solidFill>
                <a:latin typeface="Century Gothic"/>
              </a:rPr>
              <a:t>$572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What is the average cost per day for an adult pass that can travel between 5 countries in 8 days? </a:t>
            </a:r>
            <a:r>
              <a:rPr b="0" lang="en-US" sz="1600" spc="-1" strike="noStrike">
                <a:solidFill>
                  <a:srgbClr val="ff0000"/>
                </a:solidFill>
                <a:latin typeface="Century Gothic"/>
              </a:rPr>
              <a:t>$91.13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What is the minimum cost for an adult ticket? </a:t>
            </a:r>
            <a:r>
              <a:rPr b="0" lang="en-US" sz="1600" spc="-1" strike="noStrike">
                <a:solidFill>
                  <a:srgbClr val="ff0000"/>
                </a:solidFill>
                <a:latin typeface="Century Gothic"/>
              </a:rPr>
              <a:t>$471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What is the maximum cost for a child ticket? </a:t>
            </a:r>
            <a:r>
              <a:rPr b="0" lang="en-US" sz="1600" spc="-1" strike="noStrike">
                <a:solidFill>
                  <a:srgbClr val="ff0000"/>
                </a:solidFill>
                <a:latin typeface="Century Gothic"/>
              </a:rPr>
              <a:t>$522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976320" y="609480"/>
            <a:ext cx="5896080" cy="2210040"/>
            <a:chOff x="976320" y="609480"/>
            <a:chExt cx="5896080" cy="2210040"/>
          </a:xfrm>
        </p:grpSpPr>
        <p:pic>
          <p:nvPicPr>
            <p:cNvPr id="117" name="" descr=""/>
            <p:cNvPicPr/>
            <p:nvPr/>
          </p:nvPicPr>
          <p:blipFill>
            <a:blip r:embed="rId2"/>
            <a:srcRect l="11998" t="17998" r="39745" b="77991"/>
            <a:stretch/>
          </p:blipFill>
          <p:spPr>
            <a:xfrm>
              <a:off x="990720" y="609480"/>
              <a:ext cx="5881680" cy="30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3"/>
            <a:srcRect l="11998" t="47995" r="39745" b="26997"/>
            <a:stretch/>
          </p:blipFill>
          <p:spPr>
            <a:xfrm>
              <a:off x="976320" y="914400"/>
              <a:ext cx="5881680" cy="1905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1981080" y="30492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Period 3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Century Gothic"/>
              </a:rPr>
              <a:t>ANSWER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"/>
          <p:cNvSpPr/>
          <p:nvPr/>
        </p:nvSpPr>
        <p:spPr>
          <a:xfrm>
            <a:off x="3124080" y="60948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 U L T           C H I L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927680" y="622440"/>
            <a:ext cx="1440" cy="2197080"/>
          </a:xfrm>
          <a:custGeom>
            <a:avLst/>
            <a:gdLst/>
            <a:ahLst/>
            <a:rect l="l" t="t" r="r" b="b"/>
            <a:pathLst>
              <a:path w="1" h="1384">
                <a:moveTo>
                  <a:pt x="0" y="0"/>
                </a:moveTo>
                <a:lnTo>
                  <a:pt x="0" y="138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5880" y="685440"/>
            <a:ext cx="227016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Period 4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69608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During December, which industry had the greatest weekly earnings?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During what month did construction experience its minimum earnings?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During what two-month period, did manufacturing experience the greatest increase?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During what month did private industry experience its maximum earnings?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rcRect l="8624" t="23997" r="9374" b="23397"/>
          <a:stretch/>
        </p:blipFill>
        <p:spPr>
          <a:xfrm>
            <a:off x="533520" y="3056040"/>
            <a:ext cx="8153280" cy="32684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33520" y="297180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Weekly Earnings (in dollars) for Arizona Industries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rom bls.go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86200" y="685440"/>
            <a:ext cx="447984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Period 4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Century Gothic"/>
              </a:rPr>
              <a:t>ANSWER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69608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During December, which industry had the greatest weekly earnings? </a:t>
            </a:r>
            <a:r>
              <a:rPr b="0" lang="en-US" sz="1400" spc="-1" strike="noStrike">
                <a:solidFill>
                  <a:srgbClr val="ff0000"/>
                </a:solidFill>
                <a:latin typeface="Century Gothic"/>
              </a:rPr>
              <a:t>Manufacturing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During what month did construction experience its minimum earnings? </a:t>
            </a:r>
            <a:r>
              <a:rPr b="0" lang="en-US" sz="1400" spc="-1" strike="noStrike">
                <a:solidFill>
                  <a:srgbClr val="ff0000"/>
                </a:solidFill>
                <a:latin typeface="Century Gothic"/>
              </a:rPr>
              <a:t>July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During what two-month period, did manufacturing experience the greatest increase? </a:t>
            </a:r>
            <a:r>
              <a:rPr b="0" lang="en-US" sz="1400" spc="-1" strike="noStrike">
                <a:solidFill>
                  <a:srgbClr val="ff0000"/>
                </a:solidFill>
                <a:latin typeface="Century Gothic"/>
              </a:rPr>
              <a:t>September to October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During what month did private industry experience its maximum earnings? </a:t>
            </a:r>
            <a:r>
              <a:rPr b="0" lang="en-US" sz="1400" spc="-1" strike="noStrike">
                <a:solidFill>
                  <a:srgbClr val="ff0000"/>
                </a:solidFill>
                <a:latin typeface="Century Gothic"/>
              </a:rPr>
              <a:t>April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rcRect l="8624" t="23997" r="9374" b="23397"/>
          <a:stretch/>
        </p:blipFill>
        <p:spPr>
          <a:xfrm>
            <a:off x="533520" y="3056040"/>
            <a:ext cx="8153280" cy="32684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33520" y="297180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Weekly Earnings (in dollars) for Arizona Industries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rom bls.go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9T18:19:50Z</dcterms:created>
  <dc:creator>Connie Dolezal</dc:creator>
  <dc:description/>
  <cp:keywords/>
  <dc:language>en-US</dc:language>
  <cp:lastModifiedBy>Connie Dolezal</cp:lastModifiedBy>
  <dcterms:modified xsi:type="dcterms:W3CDTF">2008-03-26T21:20:10Z</dcterms:modified>
  <cp:revision>9</cp:revision>
  <dc:subject/>
  <dc:title>Graphs II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401033</vt:lpwstr>
  </property>
</Properties>
</file>