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C6F-DB81-40EA-BFF2-E519CB37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DF6-F456-413E-BC8B-EFA29765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387-C1C8-4D38-BB30-B670D04D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41B-7F0C-477F-8919-DA36F7C5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D92-7256-438F-8AA8-FB6F27D9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FDA-7BA8-439A-B973-E2E39433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0472-D113-4E9C-B8F4-5BDAF05D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BBD9-E389-4551-A3E3-D990C8A1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C24A-4672-4AC8-AD8F-052C92DE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5706-9388-4917-8DA7-98F70B2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FE09-F531-4774-BE4D-54E3F336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800-BC22-4F21-8B15-AD0880A1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0C2-7EF9-446C-9650-1DBC7AB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77C5-EC0C-4E08-A0D5-57D18B52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0BC-E70E-4FE2-979B-DD00352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6769-6619-4BAB-BD12-2D717133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8459-5E4F-4FFE-B5B1-918517D5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49E-ECB4-45C9-9FC5-B7BB47E8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6A4-D65E-4157-8508-B77F6151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EB7-180A-4361-A1CF-8A7B065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4EE-1487-4D98-81F3-07A69547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B91-8D06-4320-B9F0-150415B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C6C-1508-4D51-80E0-A1ED47E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AAC-DB78-4A8E-857A-1D0B799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0692-30A6-4336-8CB6-22E90177D79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40C-D636-42AB-97A1-CACC030AE9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aphs II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IMS Math Revie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ring, 200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dict the sales for 2008 Quarter 2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did iPod sales reach a maximu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and when was the minimum sales in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sales for 2008 Quarter 2.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13,168 (answers will var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id iPod sales reach a maximum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8 Quarter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nd when was the minimum sales in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8,111, 000 - Quarter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37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20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90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82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average increase per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as the average cost in 200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ould be the project cost in 2010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,5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increase per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5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as the average cost in 2003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26,48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ould be the project cost in 2010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1,07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5,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 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66,000,  Food = $29,000,  Other = $5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528,000, Food = $232,000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Other = $40,00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inimum cost for an adult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aximum cost for a child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2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7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91.1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inimum cost for an adult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47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ximum cost for a child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2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2270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4479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September to October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9:50Z</dcterms:created>
  <dc:creator>Connie Dolezal</dc:creator>
  <dc:description/>
  <cp:keywords/>
  <dc:language>en-US</dc:language>
  <cp:lastModifiedBy>Connie Dolezal</cp:lastModifiedBy>
  <dcterms:modified xsi:type="dcterms:W3CDTF">2008-03-26T21:20:10Z</dcterms:modified>
  <cp:revision>9</cp:revision>
  <dc:subject/>
  <dc:title>Graphs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