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D5-BBAB-4C7D-A2F2-247B918F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3FC-2F40-4530-A975-0E996DA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395-B4CF-4860-9C97-8C78C1DA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8DF-B095-47B9-BC52-5F37C971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538E-B793-4865-8708-59954E40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CCA-DF42-4930-9FC9-5A114B6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89C9-0E27-41C2-B868-2FF38C6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0AA6-14DF-4773-AA4D-7D1BF894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82C8-2EFF-462A-831E-B385EE2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D15-3B3C-4E09-87B2-1AC29A3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53CD-9F1A-4A49-866D-855B1D5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4D4-7A9A-4A8D-B87C-635E42B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01F-0019-46BF-8D97-6D77A06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4163-6F7B-42E1-94D0-E73DF66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834-FAAC-46B1-9AD3-798D46C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B648-4C38-4F40-96F8-7FB39ED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ADE-0EA8-4700-BA29-94828DDF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887-8BDF-47EC-B5D9-A17FB6A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479-55AD-48E0-BBB3-B8205D9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50D-0492-4A30-BCE0-3B83036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522-7CD5-47AC-903B-9003CEE9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77C-F353-4229-9C89-EFEB0E4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7F5-8189-4AA4-AB2D-1DA7F6F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23E-F17F-4E30-B2B9-4090E1BC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ECE7-EE9B-4C09-8420-A633B60CB84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CA49-8F0C-4F99-90FE-E5548D3399C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aphs II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IMS Math Review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ring, 200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dict the sales for 2008 Quarter 2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n did iPod sales reach a maximum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and when was the minimum sales in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5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255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rst quarter sales were greatest each year except for what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sales for 2008 Quarter 2.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13,168 (answers will vary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did iPod sales reach a maximum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2008 Quarter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nd when was the minimum sales in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8,111, 000 - Quarter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524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6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6, how many more people visited MySpace than YouTub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37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 July, 2005, how many fewer people visited YouTube than MySpace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approx. 20,000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MySpace for Januar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90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edict the number of visitors to YouTube for July, 2008.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82,000,000 (answers will vary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76720" y="700200"/>
            <a:ext cx="53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average increase per ye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as the average cost in 200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ould be the project cost in 2010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riod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3627360"/>
            <a:ext cx="57913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increase in the vehicle selling price from 1996 to 200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,55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increase per year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65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as the average cost in 2003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26,485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ould be the project cost in 2010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1,07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will be the expected cost of a vehicle in 2016?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$35,0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609480"/>
            <a:ext cx="3657240" cy="2819160"/>
            <a:chOff x="1295280" y="609480"/>
            <a:chExt cx="3657240" cy="28191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rcRect l="23247" t="38396" r="51368" b="31197"/>
            <a:stretch/>
          </p:blipFill>
          <p:spPr>
            <a:xfrm>
              <a:off x="1313640" y="609480"/>
              <a:ext cx="3620160" cy="27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38640" y="3060000"/>
              <a:ext cx="71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941400"/>
              <a:ext cx="3657240" cy="24872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2 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9080" y="373356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jor source of revenue for theater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100,000 in a month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66,000,  Food = $29,000,  Other = $5,000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a theater generates $800,000 in a year, what amount will be from each category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Ticket sales = $528,000, Food = $232,000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Other = $40,00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685800"/>
            <a:ext cx="4038120" cy="2971080"/>
            <a:chOff x="1143000" y="685800"/>
            <a:chExt cx="4038120" cy="2971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22497" t="40796" r="51368" b="31197"/>
            <a:stretch/>
          </p:blipFill>
          <p:spPr>
            <a:xfrm>
              <a:off x="1232640" y="685800"/>
              <a:ext cx="3839760" cy="28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47080" y="3148560"/>
              <a:ext cx="642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706680"/>
              <a:ext cx="4038120" cy="29502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inimum cost for an adult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4431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the maximum cost for a child ticket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3048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and a child pass for 4 countries over 6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28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difference in price for an adult rail pass for 3 countries over 5 days versus an adult pass for 5 countries over 15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7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average cost per day for an adult pass that can travel between 5 countries in 8 days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91.1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inimum cost for an adult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47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is the maximum cost for a child ticket? </a:t>
            </a: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$52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6320" y="609480"/>
            <a:ext cx="5896080" cy="2210040"/>
            <a:chOff x="976320" y="609480"/>
            <a:chExt cx="5896080" cy="221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rcRect l="11998" t="17998" r="39745" b="77991"/>
            <a:stretch/>
          </p:blipFill>
          <p:spPr>
            <a:xfrm>
              <a:off x="990720" y="609480"/>
              <a:ext cx="58816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11998" t="47995" r="39745" b="26997"/>
            <a:stretch/>
          </p:blipFill>
          <p:spPr>
            <a:xfrm>
              <a:off x="976320" y="914400"/>
              <a:ext cx="588168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 U L T           C H I L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7680" y="622440"/>
            <a:ext cx="1440" cy="2197080"/>
          </a:xfrm>
          <a:custGeom>
            <a:avLst/>
            <a:gdLst/>
            <a:ahLst/>
            <a:rect l="l" t="t" r="r" b="b"/>
            <a:pathLst>
              <a:path w="1" h="1384">
                <a:moveTo>
                  <a:pt x="0" y="0"/>
                </a:moveTo>
                <a:lnTo>
                  <a:pt x="0" y="1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2270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4479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eriod 4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entury Gothic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December, which industry had the greatest weekly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construction experience its min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two-month period, did manufacturing experience the greatest increase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September to October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uring what month did private industry experience its maximum earnings? </a:t>
            </a: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8624" t="23997" r="9374" b="23397"/>
          <a:stretch/>
        </p:blipFill>
        <p:spPr>
          <a:xfrm>
            <a:off x="533520" y="3056040"/>
            <a:ext cx="8153280" cy="326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2971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eekly Earnings (in dollars) for Arizona Industries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om bls.g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19:50Z</dcterms:created>
  <dc:creator>Connie Dolezal</dc:creator>
  <dc:description/>
  <cp:keywords/>
  <dc:language>en-US</dc:language>
  <cp:lastModifiedBy>Connie Dolezal</cp:lastModifiedBy>
  <dcterms:modified xsi:type="dcterms:W3CDTF">2008-03-26T21:20:10Z</dcterms:modified>
  <cp:revision>9</cp:revision>
  <dc:subject/>
  <dc:title>Graphs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