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2CB-E74D-409E-A602-8E6BA405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F74-BB5C-4289-B2D8-D5A9C5A2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116-E41C-4A17-ABE2-E12B34DA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5C9-9A0D-4541-AB47-65384062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C6FA-3B99-4C79-8600-87E490B9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C31A-4419-4874-9103-2268452C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42EA-7F62-4932-87D4-D21ABEB0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39E5-615F-473B-B9DF-376AC08B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9467-3304-4001-828A-DB3D3D10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242D-F2C8-4BF6-BABB-329F8CBC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19D9-4949-4394-AC68-3C95E5D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E5C-9479-4AEE-B5A1-AE43A7B1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12E7-EDF6-4211-BED3-7524F174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92FF-17E5-4184-9F95-EBD1C19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2C0A-CC80-4F94-B769-FFD78CF6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660B-DDF0-4667-90BE-DEF4CFD9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12B9-5A4C-4AF1-8E7E-D6833AFE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EE6-A97A-4A51-866F-3AD32EB4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65D-0968-476D-AD62-FF7F23E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200-D47B-4286-84D1-0BD38026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E72-3379-4E25-A7FE-82A13C75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4E1-B86A-4320-AD73-7C54FF8C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47B-D7D1-4E6A-BC23-C9A4159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801-088D-4BE4-8FE4-11AE356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1A05-6CA8-4F9E-9208-6F99BE08B8B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5FAC-65F2-4583-9195-160FE8B4B1D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aphs II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IMS Math Review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ring, 200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dict the sales for 2008 Quarter 2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n did iPod sales reach a maximum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and when was the minimum sales in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sales for 2008 Quarter 2.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13,168 (answers will vary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did iPod sales reach a maximum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8 Quarter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nd when was the minimum sales in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8,111, 000 - Quarter 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37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20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90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82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average increase per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as the average cost in 200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ould be the project cost in 2010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1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,55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increase per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5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as the average cost in 2003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26,48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ould be the project cost in 2010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1,07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5,0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99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 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66,000,  Food = $29,000,  Other = $5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528,000, Food = $232,000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Other = $40,00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inimum cost for an adult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aximum cost for a child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28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7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91.1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inimum cost for an adult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47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ximum cost for a child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2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5880" y="685440"/>
            <a:ext cx="22701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86200" y="685440"/>
            <a:ext cx="4479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Jul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September to October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19:50Z</dcterms:created>
  <dc:creator>Connie Dolezal</dc:creator>
  <dc:description/>
  <cp:keywords/>
  <dc:language>en-US</dc:language>
  <cp:lastModifiedBy>Connie Dolezal</cp:lastModifiedBy>
  <dcterms:modified xsi:type="dcterms:W3CDTF">2008-03-26T21:20:10Z</dcterms:modified>
  <cp:revision>9</cp:revision>
  <dc:subject/>
  <dc:title>Graphs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