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79F0-D2E3-4D68-A0C6-C6D04FC64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E361-AE87-4D65-B710-0459660A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3F25-7492-4F99-B6A5-D4996804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CA28-325C-4FAA-B625-FC8663D9C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4012-03D3-4D0D-836B-9E9A35E03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5FF3-54BA-4208-9F88-9920AF98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0E14-2F76-43D3-B1C2-97CD4E4D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6492-20C6-4D3A-B7F3-EEC303D4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91BE-47CD-448F-9062-3F76596B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9E87-B449-47D1-937A-DC67B44D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D759-56AC-4681-86BB-097CF090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FE43-FBAA-400F-898B-80D048C4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D5DB-4B7D-4C25-A5AD-86D0F935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E9C8-C1AD-4E5C-B6F1-D070E144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50B2-38A7-4C05-99A4-C04FE9C1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FBA6-15EB-44C8-B21C-977341964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998E-0D77-4BF2-9F14-87A0D552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F8AF-391B-4F9D-8E8D-EE184771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CE00-0A97-458A-B2D4-79AC4DD8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0544-3C97-46A0-B6DC-159F64FF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D3C7-9FE7-4913-901D-D8F09991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1070-2180-4DE0-A0AC-213EDF34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5224-8B51-4809-A40D-02E5FEE9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E09A-C3E8-4298-9F4F-45876423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A0E0-5055-4186-8C80-E8ABC985B62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EB69-C50E-4FB7-8AF5-87563FDAC94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Graphs II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IMS Math Review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pring, 2008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5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79080" y="1371600"/>
            <a:ext cx="7255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rst quarter sales were greatest each year except for what year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redict the sales for 2008 Quarter 2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en did iPod sales reach a maximum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and when was the minimum sales in 2006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219320" y="3429000"/>
            <a:ext cx="55245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5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Century Gothic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79080" y="1371600"/>
            <a:ext cx="7255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rst quarter sales were greatest each year except for what year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redict the sales for 2008 Quarter 2.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13,168 (answers will vary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en did iPod sales reach a maximum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2008 Quarter 1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and when was the minimum sales in 2006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8,111, 000 - Quarter 3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219320" y="3429000"/>
            <a:ext cx="55245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6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79080" y="3809880"/>
            <a:ext cx="52578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n July, 2006, how many more people visited MySpace than YouTube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n July, 2005, how many fewer people visited YouTube than MySpace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redict the number of visitors to MySpace for January, 2008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redict the number of visitors to YouTube for July, 2008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276720" y="700200"/>
            <a:ext cx="536256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eriod 6</a:t>
            </a:r>
            <a:br>
              <a:rPr sz="3200"/>
            </a:br>
            <a:r>
              <a:rPr b="0" lang="en-US" sz="3200" spc="-1" strike="noStrike" u="sng">
                <a:solidFill>
                  <a:srgbClr val="ff0000"/>
                </a:solidFill>
                <a:uFillTx/>
                <a:latin typeface="Century Gothic"/>
              </a:rPr>
              <a:t>ANSWER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79080" y="3809880"/>
            <a:ext cx="52578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n July, 2006, how many more people visited MySpace than YouTube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approx. 37,000,000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n July, 2005, how many fewer people visited YouTube than MySpace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approx. 20,000,000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Predict the number of visitors to MySpace for January, 2008.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90,000,000 (answers will vary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Predict the number of visitors to YouTube for July, 2008.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82,000,000 (answers will vary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276720" y="700200"/>
            <a:ext cx="536256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1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3627360"/>
            <a:ext cx="57913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is the increase in the vehicle selling price from 1996 to 2006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is the average increase per year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was the average cost in 2003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would be the project cost in 2010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will be the expected cost of a vehicle in 2016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295280" y="609480"/>
            <a:ext cx="3657240" cy="2819160"/>
            <a:chOff x="1295280" y="609480"/>
            <a:chExt cx="3657240" cy="2819160"/>
          </a:xfrm>
        </p:grpSpPr>
        <p:pic>
          <p:nvPicPr>
            <p:cNvPr id="87" name="" descr=""/>
            <p:cNvPicPr/>
            <p:nvPr/>
          </p:nvPicPr>
          <p:blipFill>
            <a:blip r:embed="rId2"/>
            <a:srcRect l="23247" t="38396" r="51368" b="31197"/>
            <a:stretch/>
          </p:blipFill>
          <p:spPr>
            <a:xfrm>
              <a:off x="1313640" y="609480"/>
              <a:ext cx="3620160" cy="279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238640" y="3060000"/>
              <a:ext cx="71388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95280" y="941400"/>
              <a:ext cx="3657240" cy="248724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102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eriod 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entury Gothic"/>
              </a:rPr>
              <a:t>ANSWER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3627360"/>
            <a:ext cx="57913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the increase in the vehicle selling price from 1996 to 2006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$6,550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the average increase per year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$655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was the average cost in 2003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$26,485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would be the project cost in 2010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$31,070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will be the expected cost of a vehicle in 2016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$35,000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295280" y="609480"/>
            <a:ext cx="3657240" cy="2819160"/>
            <a:chOff x="1295280" y="609480"/>
            <a:chExt cx="3657240" cy="2819160"/>
          </a:xfrm>
        </p:grpSpPr>
        <p:pic>
          <p:nvPicPr>
            <p:cNvPr id="93" name="" descr=""/>
            <p:cNvPicPr/>
            <p:nvPr/>
          </p:nvPicPr>
          <p:blipFill>
            <a:blip r:embed="rId2"/>
            <a:srcRect l="23247" t="38396" r="51368" b="31197"/>
            <a:stretch/>
          </p:blipFill>
          <p:spPr>
            <a:xfrm>
              <a:off x="1313640" y="609480"/>
              <a:ext cx="3620160" cy="279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238640" y="3060000"/>
              <a:ext cx="71388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95280" y="941400"/>
              <a:ext cx="3657240" cy="248724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2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79080" y="3733560"/>
            <a:ext cx="52578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is the major source of revenue for theaters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f a theater generates $100,000 in a month, what amount will be from each category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f a theater generates $800,000 in a year, what amount will be from each category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143000" y="685800"/>
            <a:ext cx="4038120" cy="2971080"/>
            <a:chOff x="1143000" y="685800"/>
            <a:chExt cx="4038120" cy="2971080"/>
          </a:xfrm>
        </p:grpSpPr>
        <p:pic>
          <p:nvPicPr>
            <p:cNvPr id="99" name="" descr=""/>
            <p:cNvPicPr/>
            <p:nvPr/>
          </p:nvPicPr>
          <p:blipFill>
            <a:blip r:embed="rId2"/>
            <a:srcRect l="22497" t="40796" r="51368" b="31197"/>
            <a:stretch/>
          </p:blipFill>
          <p:spPr>
            <a:xfrm>
              <a:off x="1232640" y="685800"/>
              <a:ext cx="3839760" cy="28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4447080" y="3148560"/>
              <a:ext cx="6426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43000" y="706680"/>
              <a:ext cx="4038120" cy="295020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2 </a:t>
            </a:r>
            <a:br>
              <a:rPr sz="3600"/>
            </a:br>
            <a:r>
              <a:rPr b="0" lang="en-US" sz="3600" spc="-1" strike="noStrike" u="sng">
                <a:solidFill>
                  <a:srgbClr val="ff0000"/>
                </a:solidFill>
                <a:uFillTx/>
                <a:latin typeface="Century Gothic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9080" y="3733560"/>
            <a:ext cx="52578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hat is the major source of revenue for theaters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Ticket sales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f a theater generates $100,000 in a month, what amount will be from each category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Ticket sales = $66,000,  Food = $29,000,  Other = $5,000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f a theater generates $800,000 in a year, what amount will be from each category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Ticket sales = $528,000, Food = $232,000,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Other = $40,000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143000" y="685800"/>
            <a:ext cx="4038120" cy="2971080"/>
            <a:chOff x="1143000" y="685800"/>
            <a:chExt cx="4038120" cy="297108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rcRect l="22497" t="40796" r="51368" b="31197"/>
            <a:stretch/>
          </p:blipFill>
          <p:spPr>
            <a:xfrm>
              <a:off x="1232640" y="685800"/>
              <a:ext cx="3839760" cy="28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4447080" y="3148560"/>
              <a:ext cx="6426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43000" y="706680"/>
              <a:ext cx="4038120" cy="295020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400" y="3048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the difference in price for an adult rail pass and a child pass for 4 countries over 6 days? 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4431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the difference in price for an adult rail pass for 3 countries over 5 days versus an adult pass for 5 countries over 15 days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4431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the average cost per day for an adult pass that can travel between 5 countries in 8 days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4431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the minimum cost for an adult ticket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4431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the maximum cost for a child ticket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976320" y="609480"/>
            <a:ext cx="5896080" cy="2210040"/>
            <a:chOff x="976320" y="609480"/>
            <a:chExt cx="5896080" cy="221004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rcRect l="11998" t="17998" r="39745" b="77991"/>
            <a:stretch/>
          </p:blipFill>
          <p:spPr>
            <a:xfrm>
              <a:off x="990720" y="609480"/>
              <a:ext cx="58816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rcRect l="11998" t="47995" r="39745" b="26997"/>
            <a:stretch/>
          </p:blipFill>
          <p:spPr>
            <a:xfrm>
              <a:off x="976320" y="914400"/>
              <a:ext cx="5881680" cy="190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67616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3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094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 U L T           C H I L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27680" y="622440"/>
            <a:ext cx="1440" cy="2197080"/>
          </a:xfrm>
          <a:custGeom>
            <a:avLst/>
            <a:gdLst/>
            <a:ahLst/>
            <a:rect l="l" t="t" r="r" b="b"/>
            <a:pathLst>
              <a:path w="1" h="1384">
                <a:moveTo>
                  <a:pt x="0" y="0"/>
                </a:moveTo>
                <a:lnTo>
                  <a:pt x="0" y="1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14400" y="3048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hat is the difference in price for an adult rail pass and a child pass for 4 countries over 6 days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$288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hat is the difference in price for an adult rail pass for 3 countries over 5 days versus an adult pass for 5 countries over 15 days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$572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hat is the average cost per day for an adult pass that can travel between 5 countries in 8 days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$91.13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hat is the minimum cost for an adult ticket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$471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hat is the maximum cost for a child ticket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$522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76320" y="609480"/>
            <a:ext cx="5896080" cy="2210040"/>
            <a:chOff x="976320" y="609480"/>
            <a:chExt cx="5896080" cy="2210040"/>
          </a:xfrm>
        </p:grpSpPr>
        <p:pic>
          <p:nvPicPr>
            <p:cNvPr id="117" name="" descr=""/>
            <p:cNvPicPr/>
            <p:nvPr/>
          </p:nvPicPr>
          <p:blipFill>
            <a:blip r:embed="rId2"/>
            <a:srcRect l="11998" t="17998" r="39745" b="77991"/>
            <a:stretch/>
          </p:blipFill>
          <p:spPr>
            <a:xfrm>
              <a:off x="990720" y="609480"/>
              <a:ext cx="58816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3"/>
            <a:srcRect l="11998" t="47995" r="39745" b="26997"/>
            <a:stretch/>
          </p:blipFill>
          <p:spPr>
            <a:xfrm>
              <a:off x="976320" y="914400"/>
              <a:ext cx="5881680" cy="190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3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Century Gothic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6094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 U L T           C H I L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27680" y="622440"/>
            <a:ext cx="1440" cy="2197080"/>
          </a:xfrm>
          <a:custGeom>
            <a:avLst/>
            <a:gdLst/>
            <a:ahLst/>
            <a:rect l="l" t="t" r="r" b="b"/>
            <a:pathLst>
              <a:path w="1" h="1384">
                <a:moveTo>
                  <a:pt x="0" y="0"/>
                </a:moveTo>
                <a:lnTo>
                  <a:pt x="0" y="1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5880" y="685440"/>
            <a:ext cx="22701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4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During December, which industry had the greatest weekly earnings?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During what month did construction experience its minimum earnings?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During what two-month period, did manufacturing experience the greatest increase?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During what month did private industry experience its maximum earnings?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8624" t="23997" r="9374" b="23397"/>
          <a:stretch/>
        </p:blipFill>
        <p:spPr>
          <a:xfrm>
            <a:off x="533520" y="3056040"/>
            <a:ext cx="8153280" cy="3268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3520" y="2971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Weekly Earnings (in dollars) for Arizona Industries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rom bls.go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86200" y="685440"/>
            <a:ext cx="447984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4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Century Gothic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During December, which industry had the greatest weekly earnings? </a:t>
            </a: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Manufacturing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During what month did construction experience its minimum earnings? </a:t>
            </a: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July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During what two-month period, did manufacturing experience the greatest increase? </a:t>
            </a: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September to October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During what month did private industry experience its maximum earnings? </a:t>
            </a: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April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rcRect l="8624" t="23997" r="9374" b="23397"/>
          <a:stretch/>
        </p:blipFill>
        <p:spPr>
          <a:xfrm>
            <a:off x="533520" y="3056040"/>
            <a:ext cx="8153280" cy="3268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33520" y="2971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Weekly Earnings (in dollars) for Arizona Industries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rom bls.go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8:19:50Z</dcterms:created>
  <dc:creator>Connie Dolezal</dc:creator>
  <dc:description/>
  <cp:keywords/>
  <dc:language>en-US</dc:language>
  <cp:lastModifiedBy>Connie Dolezal</cp:lastModifiedBy>
  <dcterms:modified xsi:type="dcterms:W3CDTF">2008-03-26T21:20:10Z</dcterms:modified>
  <cp:revision>9</cp:revision>
  <dc:subject/>
  <dc:title>Graphs II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33</vt:lpwstr>
  </property>
</Properties>
</file>