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D1F-F7EB-4FBE-9EC6-EA0985B4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1A4-C1F3-43DC-8BFB-D6FF2ED4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885-257C-41E6-B6D7-14A1E400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1E7-A16F-40E2-9955-1197B51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E966-BE14-425D-85DA-9CB115BA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8560-23CA-46F6-8DA4-5104FCA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6E6E-8D8D-4BD3-B1D2-A6E35C07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BAA7-7C51-4440-9470-93A5EAD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864B-1462-4790-9689-D6C6E5D9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B38-A7DC-4E18-8C76-317E54C5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9537-0AFD-481E-954A-25F23D3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3FC-FF67-4A0A-9FB5-02AD2CC7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FDF8-8ABF-4982-9AE8-15309B76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8FA-1E29-4FE0-B1B0-4AFBEE3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59D1-7B99-41E2-B374-F315BA51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BFE1-B57A-49B4-9E91-C3176A63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3865-5F46-406C-BF33-9880C67C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517-DEF5-494B-A08E-6ED5177F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89C-78EA-4E17-8DC0-3964523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2EC-BD73-42EC-B70B-5704086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0C3-F83C-4BCD-865C-A531E430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662-248A-4D8D-82BF-6B740F8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9BC-0372-46F4-8216-7BA063E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E51-9EB2-4D4B-AFDE-58AB44B0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1D8-75A6-4B65-BEAF-454C3467C21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892-835C-4260-87A9-3DE2769128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aphs II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IMS Math Revie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ring, 200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dict the sales for 2008 Quarter 2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did iPod sales reach a maximu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and when was the minimum sales in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sales for 2008 Quarter 2.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13,168 (answers will var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id iPod sales reach a maximum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8 Quarter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nd when was the minimum sales in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8,111, 000 - Quarter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37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20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90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82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average increase per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as the average cost in 200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ould be the project cost in 2010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,5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increase per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5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as the average cost in 2003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26,48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ould be the project cost in 2010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1,07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5,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 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66,000,  Food = $29,000,  Other = $5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528,000, Food = $232,000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Other = $40,00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inimum cost for an adult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aximum cost for a child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2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7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91.1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inimum cost for an adult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47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ximum cost for a child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2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2270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4479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September to October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9:50Z</dcterms:created>
  <dc:creator>Connie Dolezal</dc:creator>
  <dc:description/>
  <cp:keywords/>
  <dc:language>en-US</dc:language>
  <cp:lastModifiedBy>Connie Dolezal</cp:lastModifiedBy>
  <dcterms:modified xsi:type="dcterms:W3CDTF">2008-03-26T21:20:10Z</dcterms:modified>
  <cp:revision>9</cp:revision>
  <dc:subject/>
  <dc:title>Graphs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