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ng Polynomials and Solving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-360" y="7617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do you factor a trinomial with a leading coefficient of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actor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x +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use a diamon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120" y="3962520"/>
            <a:ext cx="38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s 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b50069"/>
                </a:solidFill>
                <a:latin typeface="Times New Roman"/>
              </a:rPr>
              <a:t>(x – 9)(x –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286000"/>
            <a:ext cx="1143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895480" y="2285640"/>
            <a:ext cx="1143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83920" y="1600200"/>
            <a:ext cx="35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the middle coefficient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the last term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505320" y="1828800"/>
            <a:ext cx="7617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581280" y="3505320"/>
            <a:ext cx="6098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5880" y="2209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5520" y="30481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2286000"/>
            <a:ext cx="44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, find factors that will multiply to the bottom number, and add to the top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21320" y="2666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9      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00" y="4419720"/>
            <a:ext cx="42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actor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x –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4876920"/>
            <a:ext cx="1143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743200" y="4876560"/>
            <a:ext cx="1143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4800600"/>
            <a:ext cx="71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4640" y="518148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8     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4960" y="5105520"/>
            <a:ext cx="38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s 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b50069"/>
                </a:solidFill>
                <a:latin typeface="Times New Roman"/>
              </a:rPr>
              <a:t>(x – 8)(x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do you factor a trinomial whose leading coefficient is not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419360" y="518112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Times New Roman"/>
              </a:rPr>
              <a:t>(3x + 1)(x  + 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10080" y="685800"/>
            <a:ext cx="7967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act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3x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 will make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determine the coefficients of the facto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2666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32004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5000" y="1523880"/>
            <a:ext cx="179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factor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term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22860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3560" y="2743200"/>
            <a:ext cx="3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3640" y="1523880"/>
            <a:ext cx="179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factor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st term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590920" y="243828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7080" y="2743200"/>
            <a:ext cx="3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762120"/>
            <a:ext cx="304920" cy="380880"/>
          </a:xfrm>
          <a:prstGeom prst="ellipse">
            <a:avLst/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762120"/>
            <a:ext cx="609840" cy="380880"/>
          </a:xfrm>
          <a:prstGeom prst="ellipse">
            <a:avLst/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8280" y="4267080"/>
            <a:ext cx="312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diagonally and 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if the sum matche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erm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3886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  +   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3886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Times New Roman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0600" y="4343400"/>
            <a:ext cx="26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, try ano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 of factor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2767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2666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6600" y="2743200"/>
            <a:ext cx="3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6080" y="2743200"/>
            <a:ext cx="3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3886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 +    1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3886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8000" y="26668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(  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8000" y="327672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(  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6880" y="2743200"/>
            <a:ext cx="164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0069"/>
                </a:solidFill>
                <a:latin typeface="Times New Roman"/>
              </a:rPr>
              <a:t>These ar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0069"/>
                </a:solidFill>
                <a:latin typeface="Times New Roman"/>
              </a:rPr>
              <a:t>coefficient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0069"/>
                </a:solidFill>
                <a:latin typeface="Times New Roman"/>
              </a:rPr>
              <a:t>the factor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248520" y="32767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248520" y="2971440"/>
            <a:ext cx="3808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actor  6d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3d – 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member, look for the 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GC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firs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CF: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d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d – 2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w, factor the trinomial (using a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1560" y="2332080"/>
            <a:ext cx="38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8680" y="51055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Times New Roman"/>
              </a:rPr>
              <a:t>3(2d – 3)(d +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3048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38098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4495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+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74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7440" y="320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2880" y="32004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3240" y="39625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495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do you factor the sum or difference of cub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1920" y="609120"/>
            <a:ext cx="815364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’ll need to memorize the factorization of the sum or difference of two cub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 of Two Cube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a</a:t>
            </a:r>
            <a:r>
              <a:rPr b="1" lang="en-US" sz="2400" spc="-1" strike="noStrike" baseline="50000">
                <a:solidFill>
                  <a:srgbClr val="063de8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 + b</a:t>
            </a:r>
            <a:r>
              <a:rPr b="1" lang="en-US" sz="2400" spc="-1" strike="noStrike" baseline="50000">
                <a:solidFill>
                  <a:srgbClr val="063de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1752480"/>
            <a:ext cx="59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(a + b)(a</a:t>
            </a:r>
            <a:r>
              <a:rPr b="1" lang="en-US" sz="2400" spc="-1" strike="noStrike" baseline="30000">
                <a:solidFill>
                  <a:srgbClr val="063de8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 – ab + b</a:t>
            </a:r>
            <a:r>
              <a:rPr b="1" lang="en-US" sz="2400" spc="-1" strike="noStrike" baseline="30000">
                <a:solidFill>
                  <a:srgbClr val="063de8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362320"/>
            <a:ext cx="594684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ce of Two Cub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a</a:t>
            </a:r>
            <a:r>
              <a:rPr b="1" lang="en-US" sz="2400" spc="-1" strike="noStrike" baseline="50000">
                <a:solidFill>
                  <a:srgbClr val="063de8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 – b</a:t>
            </a:r>
            <a:r>
              <a:rPr b="1" lang="en-US" sz="2400" spc="-1" strike="noStrike" baseline="50000">
                <a:solidFill>
                  <a:srgbClr val="063de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2743200"/>
            <a:ext cx="59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(a – b)(a</a:t>
            </a:r>
            <a:r>
              <a:rPr b="1" lang="en-US" sz="2400" spc="-1" strike="noStrike" baseline="30000">
                <a:solidFill>
                  <a:srgbClr val="063de8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 + ab + b</a:t>
            </a:r>
            <a:r>
              <a:rPr b="1" lang="en-US" sz="2400" spc="-1" strike="noStrike" baseline="30000">
                <a:solidFill>
                  <a:srgbClr val="063de8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352680"/>
            <a:ext cx="89917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   x</a:t>
            </a:r>
            <a:r>
              <a:rPr b="1" lang="en-US" sz="2400" spc="-1" strike="noStrike" baseline="5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cube roots of the terms are 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b5006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b5006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b50069"/>
                </a:solidFill>
                <a:latin typeface="Times New Roman"/>
              </a:rPr>
              <a:t> + 3)(</a:t>
            </a:r>
            <a:r>
              <a:rPr b="1" i="1" lang="en-US" sz="2400" spc="-1" strike="noStrike">
                <a:solidFill>
                  <a:srgbClr val="b50069"/>
                </a:solidFill>
                <a:latin typeface="Times New Roman"/>
              </a:rPr>
              <a:t>x</a:t>
            </a:r>
            <a:r>
              <a:rPr b="1" lang="en-US" sz="2400" spc="-1" strike="noStrike" baseline="50000">
                <a:solidFill>
                  <a:srgbClr val="b5006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b50069"/>
                </a:solidFill>
                <a:latin typeface="Times New Roman"/>
              </a:rPr>
              <a:t> – 3</a:t>
            </a:r>
            <a:r>
              <a:rPr b="1" i="1" lang="en-US" sz="2400" spc="-1" strike="noStrike">
                <a:solidFill>
                  <a:srgbClr val="b5006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b50069"/>
                </a:solidFill>
                <a:latin typeface="Times New Roman"/>
              </a:rPr>
              <a:t> +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006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:  Factor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5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 out the GCF fir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5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cube roots 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b50069"/>
                </a:solidFill>
                <a:latin typeface="Times New Roman"/>
              </a:rPr>
              <a:t>2(4</a:t>
            </a:r>
            <a:r>
              <a:rPr b="1" i="1" lang="en-US" sz="2400" spc="-1" strike="noStrike">
                <a:solidFill>
                  <a:srgbClr val="b5006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b50069"/>
                </a:solidFill>
                <a:latin typeface="Times New Roman"/>
              </a:rPr>
              <a:t> – 5)(16</a:t>
            </a:r>
            <a:r>
              <a:rPr b="1" i="1" lang="en-US" sz="2400" spc="-1" strike="noStrike">
                <a:solidFill>
                  <a:srgbClr val="b50069"/>
                </a:solidFill>
                <a:latin typeface="Times New Roman"/>
              </a:rPr>
              <a:t>x</a:t>
            </a:r>
            <a:r>
              <a:rPr b="1" lang="en-US" sz="2400" spc="-1" strike="noStrike" baseline="50000">
                <a:solidFill>
                  <a:srgbClr val="b5006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b50069"/>
                </a:solidFill>
                <a:latin typeface="Times New Roman"/>
              </a:rPr>
              <a:t> + 20</a:t>
            </a:r>
            <a:r>
              <a:rPr b="1" i="1" lang="en-US" sz="2400" spc="-1" strike="noStrike">
                <a:solidFill>
                  <a:srgbClr val="b5006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b50069"/>
                </a:solidFill>
                <a:latin typeface="Times New Roman"/>
              </a:rPr>
              <a:t> +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do you factor a polynomial that has 4 te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actor  x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2xy + x – 2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oup terms together to find a 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GC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2xy) + (x – 2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32280" y="1189080"/>
            <a:ext cx="38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200400"/>
            <a:ext cx="594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ae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(x – 2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(x – 2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GCF is the binomia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(x – 2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b50069"/>
                </a:solidFill>
                <a:latin typeface="Times New Roman"/>
              </a:rPr>
              <a:t>(x – 2y)(x +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9051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57560" y="26812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GCF of this binomial is </a:t>
            </a: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4ab – 9x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4b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s has a perfect square trinomial hidden in i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65440" y="1646280"/>
            <a:ext cx="38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71600" y="2327400"/>
            <a:ext cx="1095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838080"/>
            <a:ext cx="1143000" cy="0"/>
          </a:xfrm>
          <a:prstGeom prst="line">
            <a:avLst/>
          </a:prstGeom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762120"/>
            <a:ext cx="457200" cy="0"/>
          </a:xfrm>
          <a:prstGeom prst="line">
            <a:avLst/>
          </a:prstGeom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401840"/>
            <a:ext cx="72388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a</a:t>
            </a:r>
            <a:r>
              <a:rPr b="1" lang="en-US" sz="2800" spc="-1" strike="noStrike" baseline="50000">
                <a:solidFill>
                  <a:srgbClr val="063de8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+ 4ab + 4b</a:t>
            </a:r>
            <a:r>
              <a:rPr b="1" lang="en-US" sz="2800" spc="-1" strike="noStrike" baseline="50000">
                <a:solidFill>
                  <a:srgbClr val="063de8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9x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(a + 2b)</a:t>
            </a:r>
            <a:r>
              <a:rPr b="1" lang="en-US" sz="2800" spc="-1" strike="noStrike" baseline="50000">
                <a:solidFill>
                  <a:srgbClr val="063de8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 9x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w, this is the difference of 2 squ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b50069"/>
                </a:solidFill>
                <a:latin typeface="Times New Roman"/>
              </a:rPr>
              <a:t>(a + 2b + 3x)(a – 2b – 3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for the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GC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are 2 terms, look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of 2 squ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or Sum of 2 c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are 3 terms, look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ect Square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mond or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are 4 terms, look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4T21:35:45Z</dcterms:created>
  <dc:creator>Technology Resources</dc:creator>
  <dc:description/>
  <cp:keywords/>
  <dc:language>en-US</dc:language>
  <cp:lastModifiedBy>Allan H. Bredenfoerder</cp:lastModifiedBy>
  <cp:lastPrinted>2009-04-22T19:24:48Z</cp:lastPrinted>
  <dcterms:modified xsi:type="dcterms:W3CDTF">2005-10-24T16:06:29Z</dcterms:modified>
  <cp:revision>29</cp:revision>
  <dc:subject/>
  <dc:title>Factor each:</dc:title>
</cp:coreProperties>
</file>